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2.jpeg" ContentType="image/jpeg"/>
  <Override PartName="/ppt/media/image8.wmf" ContentType="image/x-wmf"/>
  <Override PartName="/ppt/media/image10.wmf" ContentType="image/x-wmf"/>
  <Override PartName="/ppt/media/image9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5.png" ContentType="image/png"/>
  <Override PartName="/ppt/media/image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13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75A2-92F5-45BD-9F8D-FC21BABA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5C71-6068-48C6-9706-8E68C2C0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45E5-D3E4-461D-B653-D828AF4E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8785-4AF6-4212-BB4D-ADF162B5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3DFE-BD71-4200-B084-41989569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8377-01C1-48D1-A904-2AB279B4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EDD7-2124-4D0D-BF0D-95B1B3A0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1191-2890-4649-BED9-53AA9342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3683-D3A0-4380-B6C6-97766F02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BC12-F891-4868-ADBC-C1B6F35E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4507-BE8B-4FA1-B68B-47E8E6AC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35F7-FE11-44A9-8D3C-FF13B7C5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7725-FC58-4E27-9266-300634264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mo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atorowy wzmacniacz moc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y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42160" y="3705120"/>
            <a:ext cx="844560" cy="658800"/>
          </a:xfrm>
          <a:custGeom>
            <a:avLst/>
            <a:gdLst/>
            <a:ahLst/>
            <a:rect l="l" t="t" r="r" b="b"/>
            <a:pathLst>
              <a:path w="532" h="415">
                <a:moveTo>
                  <a:pt x="0" y="0"/>
                </a:moveTo>
                <a:lnTo>
                  <a:pt x="0" y="415"/>
                </a:lnTo>
                <a:lnTo>
                  <a:pt x="532" y="41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1620720" y="2014560"/>
            <a:ext cx="1800" cy="939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009800" y="3141720"/>
            <a:ext cx="563400" cy="561960"/>
            <a:chOff x="1009800" y="3141720"/>
            <a:chExt cx="563400" cy="561960"/>
          </a:xfrm>
        </p:grpSpPr>
        <p:sp>
          <p:nvSpPr>
            <p:cNvPr id="293" name=""/>
            <p:cNvSpPr/>
            <p:nvPr/>
          </p:nvSpPr>
          <p:spPr>
            <a:xfrm>
              <a:off x="1009800" y="3141720"/>
              <a:ext cx="563400" cy="5619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1220760" y="3281400"/>
              <a:ext cx="1440" cy="280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1220760" y="3165480"/>
              <a:ext cx="182520" cy="185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20760" y="3492360"/>
              <a:ext cx="187200" cy="187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09800" y="3422520"/>
              <a:ext cx="210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362240" y="3561840"/>
              <a:ext cx="1440" cy="71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290240" y="3633840"/>
              <a:ext cx="716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 flipV="1">
            <a:off x="1432080" y="2953800"/>
            <a:ext cx="188640" cy="187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32080" y="3705120"/>
            <a:ext cx="188640" cy="189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620720" y="3893760"/>
            <a:ext cx="1800" cy="374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20720" y="4081320"/>
            <a:ext cx="1800" cy="187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25680" y="4268880"/>
            <a:ext cx="1890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73200" y="1968480"/>
            <a:ext cx="93600" cy="936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21400" y="2108160"/>
            <a:ext cx="1440" cy="300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37080" y="4832280"/>
            <a:ext cx="3848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625640" y="2108160"/>
            <a:ext cx="95400" cy="189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721400" y="2108160"/>
            <a:ext cx="93600" cy="189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8195760" y="4738680"/>
            <a:ext cx="18900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8195760" y="4832280"/>
            <a:ext cx="189000" cy="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721400" y="2203560"/>
            <a:ext cx="563400" cy="2628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721400" y="2766960"/>
            <a:ext cx="2652480" cy="2065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344840" y="3048120"/>
            <a:ext cx="75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4344480" y="3705120"/>
            <a:ext cx="1597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25960" y="3728880"/>
            <a:ext cx="2459160" cy="822600"/>
          </a:xfrm>
          <a:custGeom>
            <a:avLst/>
            <a:gdLst/>
            <a:ahLst/>
            <a:rect l="l" t="t" r="r" b="b"/>
            <a:pathLst>
              <a:path w="1549" h="518">
                <a:moveTo>
                  <a:pt x="0" y="0"/>
                </a:moveTo>
                <a:lnTo>
                  <a:pt x="287" y="133"/>
                </a:lnTo>
                <a:lnTo>
                  <a:pt x="602" y="281"/>
                </a:lnTo>
                <a:lnTo>
                  <a:pt x="1253" y="459"/>
                </a:lnTo>
                <a:lnTo>
                  <a:pt x="1549" y="518"/>
                </a:lnTo>
              </a:path>
            </a:pathLst>
          </a:custGeom>
          <a:noFill/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89400" y="1827360"/>
            <a:ext cx="736560" cy="1901520"/>
          </a:xfrm>
          <a:custGeom>
            <a:avLst/>
            <a:gdLst/>
            <a:ahLst/>
            <a:rect l="l" t="t" r="r" b="b"/>
            <a:pathLst>
              <a:path w="464" h="1198">
                <a:moveTo>
                  <a:pt x="464" y="1198"/>
                </a:moveTo>
                <a:lnTo>
                  <a:pt x="293" y="976"/>
                </a:lnTo>
                <a:lnTo>
                  <a:pt x="178" y="828"/>
                </a:lnTo>
                <a:lnTo>
                  <a:pt x="60" y="29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095800" y="3048120"/>
            <a:ext cx="1800" cy="2253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42160" y="3705120"/>
            <a:ext cx="1440" cy="159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486560" y="4946760"/>
            <a:ext cx="24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61520" y="50943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426520" y="49467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507520" y="50943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61920" y="2014560"/>
            <a:ext cx="19735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76840" y="24098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50720" y="255744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71160" y="184644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46840" y="1994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86240" y="175248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67240" y="1900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44840" y="2954160"/>
            <a:ext cx="1800" cy="9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251240" y="2953800"/>
            <a:ext cx="187560" cy="187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251240" y="3611520"/>
            <a:ext cx="187560" cy="187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02200" y="5208480"/>
            <a:ext cx="10335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848200" y="5114880"/>
            <a:ext cx="187560" cy="187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002200" y="5114880"/>
            <a:ext cx="187200" cy="187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93280" y="34164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16080" y="353700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97440" y="3684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83560" y="53229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64560" y="54705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393680" y="4476600"/>
            <a:ext cx="17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'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73240" y="4624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55320" y="231624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144640" y="419580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196120" y="434340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86080" y="3403440"/>
            <a:ext cx="19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08280" y="5376960"/>
            <a:ext cx="19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26200" y="52275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03640" y="32558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07880" y="2463840"/>
            <a:ext cx="19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894280" y="3659040"/>
            <a:ext cx="93600" cy="939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49720" y="3002040"/>
            <a:ext cx="93960" cy="936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48200" y="5208480"/>
            <a:ext cx="10335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692760" y="5114880"/>
            <a:ext cx="189000" cy="187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848200" y="5114880"/>
            <a:ext cx="187560" cy="187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52840" y="5376960"/>
            <a:ext cx="19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0760" y="52275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786720" y="4363920"/>
            <a:ext cx="1440" cy="844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44840" y="3611520"/>
            <a:ext cx="1800" cy="9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4251240" y="3611520"/>
            <a:ext cx="187560" cy="187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4251240" y="4268520"/>
            <a:ext cx="187560" cy="189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86080" y="4060800"/>
            <a:ext cx="19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03640" y="391320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44840" y="4363920"/>
            <a:ext cx="24418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40640" y="4316400"/>
            <a:ext cx="93600" cy="936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222960" y="3424320"/>
            <a:ext cx="563760" cy="750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6720" y="3424320"/>
            <a:ext cx="282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923880" y="306720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03440" y="321624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8520" y="3424320"/>
            <a:ext cx="657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525680" y="2108160"/>
            <a:ext cx="189000" cy="752400"/>
            <a:chOff x="1525680" y="2108160"/>
            <a:chExt cx="189000" cy="752400"/>
          </a:xfrm>
        </p:grpSpPr>
        <p:sp>
          <p:nvSpPr>
            <p:cNvPr id="373" name=""/>
            <p:cNvSpPr/>
            <p:nvPr/>
          </p:nvSpPr>
          <p:spPr>
            <a:xfrm>
              <a:off x="1525680" y="2108160"/>
              <a:ext cx="189000" cy="18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25680" y="2297160"/>
              <a:ext cx="1890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25680" y="2484360"/>
              <a:ext cx="189000" cy="187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525680" y="2671920"/>
              <a:ext cx="189000" cy="188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901880" y="2203560"/>
            <a:ext cx="187200" cy="563400"/>
            <a:chOff x="1901880" y="2203560"/>
            <a:chExt cx="187200" cy="563400"/>
          </a:xfrm>
        </p:grpSpPr>
        <p:sp>
          <p:nvSpPr>
            <p:cNvPr id="378" name=""/>
            <p:cNvSpPr/>
            <p:nvPr/>
          </p:nvSpPr>
          <p:spPr>
            <a:xfrm>
              <a:off x="1901880" y="220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01880" y="239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01880" y="2577960"/>
              <a:ext cx="187200" cy="18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1432080" y="2108160"/>
            <a:ext cx="187200" cy="752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95480" y="2203560"/>
            <a:ext cx="189000" cy="563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08280" y="2108160"/>
            <a:ext cx="1440" cy="752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60680" y="17524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: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1995480" y="2107800"/>
            <a:ext cx="1440" cy="95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95480" y="2108160"/>
            <a:ext cx="752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747880" y="2108160"/>
            <a:ext cx="1800" cy="84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1995480" y="2954160"/>
            <a:ext cx="752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1995480" y="2766960"/>
            <a:ext cx="1440" cy="187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654280" y="2297160"/>
            <a:ext cx="187200" cy="37476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1120" y="2484360"/>
            <a:ext cx="844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1337760" y="2390760"/>
            <a:ext cx="18756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1337760" y="2484360"/>
            <a:ext cx="18756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4880" y="2128680"/>
            <a:ext cx="79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'  = n  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02800" y="2089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21280" y="2276640"/>
            <a:ext cx="58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              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1600200" y="1752480"/>
          <a:ext cx="6356520" cy="384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635652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atorowy wzmacniacz moc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y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457200" y="2590920"/>
          <a:ext cx="8163000" cy="21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90920"/>
                    <a:ext cx="8163000" cy="21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6480" y="1649520"/>
            <a:ext cx="801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proszczone schematy ideowe przeciwsobnych wzmacniaczy mocy klasy B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formatorowego                              i               beztransformatorow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7059240" y="131292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389280" y="1703520"/>
            <a:ext cx="132120" cy="1914480"/>
            <a:chOff x="6389280" y="1703520"/>
            <a:chExt cx="132120" cy="1914480"/>
          </a:xfrm>
        </p:grpSpPr>
        <p:sp>
          <p:nvSpPr>
            <p:cNvPr id="406" name=""/>
            <p:cNvSpPr/>
            <p:nvPr/>
          </p:nvSpPr>
          <p:spPr>
            <a:xfrm>
              <a:off x="6454800" y="1703520"/>
              <a:ext cx="1440" cy="191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6389280" y="1703520"/>
              <a:ext cx="132120" cy="133200"/>
              <a:chOff x="6389280" y="1703520"/>
              <a:chExt cx="132120" cy="133200"/>
            </a:xfrm>
          </p:grpSpPr>
          <p:sp>
            <p:nvSpPr>
              <p:cNvPr id="408" name=""/>
              <p:cNvSpPr/>
              <p:nvPr/>
            </p:nvSpPr>
            <p:spPr>
              <a:xfrm>
                <a:off x="6454800" y="1703520"/>
                <a:ext cx="66600" cy="13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6389280" y="1703520"/>
                <a:ext cx="65160" cy="13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8515440" y="2906640"/>
            <a:ext cx="244440" cy="349200"/>
            <a:chOff x="8515440" y="2906640"/>
            <a:chExt cx="244440" cy="349200"/>
          </a:xfrm>
        </p:grpSpPr>
        <p:sp>
          <p:nvSpPr>
            <p:cNvPr id="411" name=""/>
            <p:cNvSpPr/>
            <p:nvPr/>
          </p:nvSpPr>
          <p:spPr>
            <a:xfrm>
              <a:off x="8515440" y="2906640"/>
              <a:ext cx="183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684640" y="293544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8462880" y="3342960"/>
            <a:ext cx="131760" cy="132120"/>
            <a:chOff x="8462880" y="3342960"/>
            <a:chExt cx="131760" cy="132120"/>
          </a:xfrm>
        </p:grpSpPr>
        <p:sp>
          <p:nvSpPr>
            <p:cNvPr id="414" name=""/>
            <p:cNvSpPr/>
            <p:nvPr/>
          </p:nvSpPr>
          <p:spPr>
            <a:xfrm flipH="1" flipV="1">
              <a:off x="8462880" y="3342960"/>
              <a:ext cx="13176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8462880" y="3408480"/>
              <a:ext cx="13176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5091120" y="3408480"/>
            <a:ext cx="3500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08560" y="339408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656040" y="158904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558120" y="34275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228280" y="3394080"/>
            <a:ext cx="23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12560" y="339876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878440" y="5116680"/>
            <a:ext cx="1800" cy="19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6894360" y="5119560"/>
            <a:ext cx="133560" cy="198720"/>
            <a:chOff x="6894360" y="5119560"/>
            <a:chExt cx="133560" cy="198720"/>
          </a:xfrm>
        </p:grpSpPr>
        <p:sp>
          <p:nvSpPr>
            <p:cNvPr id="424" name=""/>
            <p:cNvSpPr/>
            <p:nvPr/>
          </p:nvSpPr>
          <p:spPr>
            <a:xfrm>
              <a:off x="7026120" y="5119560"/>
              <a:ext cx="1800" cy="19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6894360" y="5186160"/>
              <a:ext cx="131760" cy="132120"/>
              <a:chOff x="6894360" y="5186160"/>
              <a:chExt cx="131760" cy="132120"/>
            </a:xfrm>
          </p:grpSpPr>
          <p:sp>
            <p:nvSpPr>
              <p:cNvPr id="426" name=""/>
              <p:cNvSpPr/>
              <p:nvPr/>
            </p:nvSpPr>
            <p:spPr>
              <a:xfrm flipH="1">
                <a:off x="6894360" y="5253120"/>
                <a:ext cx="131760" cy="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 flipV="1">
                <a:off x="6894360" y="5186160"/>
                <a:ext cx="131760" cy="6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8" name=""/>
          <p:cNvGrpSpPr/>
          <p:nvPr/>
        </p:nvGrpSpPr>
        <p:grpSpPr>
          <a:xfrm>
            <a:off x="5880240" y="5186160"/>
            <a:ext cx="131760" cy="132120"/>
            <a:chOff x="5880240" y="5186160"/>
            <a:chExt cx="131760" cy="132120"/>
          </a:xfrm>
        </p:grpSpPr>
        <p:sp>
          <p:nvSpPr>
            <p:cNvPr id="429" name=""/>
            <p:cNvSpPr/>
            <p:nvPr/>
          </p:nvSpPr>
          <p:spPr>
            <a:xfrm flipV="1">
              <a:off x="5880240" y="5186160"/>
              <a:ext cx="13176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880240" y="5253120"/>
              <a:ext cx="13176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269040" y="5284800"/>
            <a:ext cx="1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46520" y="531324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647040" y="525924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41360" y="3159000"/>
            <a:ext cx="20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03160" y="1496880"/>
            <a:ext cx="1800" cy="19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03160" y="3408480"/>
            <a:ext cx="290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738360" y="1496880"/>
            <a:ext cx="131760" cy="131760"/>
            <a:chOff x="738360" y="1496880"/>
            <a:chExt cx="131760" cy="131760"/>
          </a:xfrm>
        </p:grpSpPr>
        <p:sp>
          <p:nvSpPr>
            <p:cNvPr id="438" name=""/>
            <p:cNvSpPr/>
            <p:nvPr/>
          </p:nvSpPr>
          <p:spPr>
            <a:xfrm>
              <a:off x="803160" y="1496880"/>
              <a:ext cx="6696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738360" y="1496880"/>
              <a:ext cx="6480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 flipH="1">
            <a:off x="3575160" y="3409920"/>
            <a:ext cx="1332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3575160" y="3341160"/>
            <a:ext cx="1332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25640" y="2149560"/>
            <a:ext cx="266040" cy="13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22320" y="2716200"/>
            <a:ext cx="266040" cy="13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24040" y="3251160"/>
            <a:ext cx="26604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578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57827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1144440" y="2082960"/>
            <a:ext cx="727200" cy="64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1058760" y="2649240"/>
            <a:ext cx="151920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923760" y="3187440"/>
            <a:ext cx="2509920" cy="65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808200" y="1956960"/>
            <a:ext cx="263520" cy="1451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82440" y="139536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44080" y="3251160"/>
            <a:ext cx="62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ce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31200" y="12924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513240" y="3408480"/>
            <a:ext cx="1440" cy="19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606600" y="3409920"/>
            <a:ext cx="2906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3446280" y="5191200"/>
            <a:ext cx="132120" cy="131760"/>
            <a:chOff x="3446280" y="5191200"/>
            <a:chExt cx="132120" cy="131760"/>
          </a:xfrm>
        </p:grpSpPr>
        <p:sp>
          <p:nvSpPr>
            <p:cNvPr id="455" name=""/>
            <p:cNvSpPr/>
            <p:nvPr/>
          </p:nvSpPr>
          <p:spPr>
            <a:xfrm flipH="1" flipV="1">
              <a:off x="3446280" y="5191200"/>
              <a:ext cx="6660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3513240" y="5191200"/>
              <a:ext cx="6516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V="1">
            <a:off x="608040" y="334296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8040" y="3411360"/>
            <a:ext cx="131760" cy="6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24360" y="4537080"/>
            <a:ext cx="26604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27680" y="3969000"/>
            <a:ext cx="26604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27400" y="3433320"/>
            <a:ext cx="266400" cy="13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41169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41169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444760" y="4670280"/>
            <a:ext cx="727200" cy="66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1738080" y="4103640"/>
            <a:ext cx="1517400" cy="65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882360" y="3565440"/>
            <a:ext cx="250812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3244680" y="3409920"/>
            <a:ext cx="263520" cy="1452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13040" y="510696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88000" y="3522600"/>
            <a:ext cx="62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ce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09640" y="1898640"/>
            <a:ext cx="1314360" cy="1484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033560" y="2154240"/>
            <a:ext cx="46080" cy="414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24000" y="3390840"/>
            <a:ext cx="46080" cy="414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224160" y="4627440"/>
            <a:ext cx="46080" cy="414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050840" y="2171880"/>
            <a:ext cx="711540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49720" y="4646520"/>
            <a:ext cx="4886280" cy="180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54800" y="3201840"/>
            <a:ext cx="1440" cy="1543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216840" y="2171880"/>
            <a:ext cx="812520" cy="1237680"/>
            <a:chOff x="6216840" y="2171880"/>
            <a:chExt cx="812520" cy="1237680"/>
          </a:xfrm>
        </p:grpSpPr>
        <p:sp>
          <p:nvSpPr>
            <p:cNvPr id="476" name=""/>
            <p:cNvSpPr/>
            <p:nvPr/>
          </p:nvSpPr>
          <p:spPr>
            <a:xfrm>
              <a:off x="6216840" y="2171880"/>
              <a:ext cx="478800" cy="44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 flipV="1">
              <a:off x="6678720" y="2312640"/>
              <a:ext cx="350640" cy="109692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5067720" y="3409920"/>
            <a:ext cx="813600" cy="1238040"/>
            <a:chOff x="5067720" y="3409920"/>
            <a:chExt cx="813600" cy="1238040"/>
          </a:xfrm>
        </p:grpSpPr>
        <p:sp>
          <p:nvSpPr>
            <p:cNvPr id="479" name=""/>
            <p:cNvSpPr/>
            <p:nvPr/>
          </p:nvSpPr>
          <p:spPr>
            <a:xfrm>
              <a:off x="5067720" y="4200480"/>
              <a:ext cx="481680" cy="44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226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22691"/>
                </a:path>
              </a:pathLst>
            </a:custGeom>
            <a:noFill/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5530320" y="3409920"/>
              <a:ext cx="351000" cy="109692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7364520" y="3409920"/>
            <a:ext cx="813960" cy="1238040"/>
            <a:chOff x="7364520" y="3409920"/>
            <a:chExt cx="813960" cy="1238040"/>
          </a:xfrm>
        </p:grpSpPr>
        <p:sp>
          <p:nvSpPr>
            <p:cNvPr id="482" name=""/>
            <p:cNvSpPr/>
            <p:nvPr/>
          </p:nvSpPr>
          <p:spPr>
            <a:xfrm>
              <a:off x="7364520" y="4200480"/>
              <a:ext cx="482040" cy="44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827480" y="3409920"/>
              <a:ext cx="351000" cy="109692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5881680" y="2171880"/>
            <a:ext cx="812520" cy="1237680"/>
            <a:chOff x="5881680" y="2171880"/>
            <a:chExt cx="812520" cy="1237680"/>
          </a:xfrm>
        </p:grpSpPr>
        <p:sp>
          <p:nvSpPr>
            <p:cNvPr id="485" name=""/>
            <p:cNvSpPr/>
            <p:nvPr/>
          </p:nvSpPr>
          <p:spPr>
            <a:xfrm>
              <a:off x="6215040" y="2171880"/>
              <a:ext cx="479160" cy="44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5881680" y="2312640"/>
              <a:ext cx="351000" cy="109692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7029360" y="3408480"/>
            <a:ext cx="812520" cy="1239480"/>
            <a:chOff x="7029360" y="3408480"/>
            <a:chExt cx="812520" cy="1239480"/>
          </a:xfrm>
        </p:grpSpPr>
        <p:sp>
          <p:nvSpPr>
            <p:cNvPr id="488" name=""/>
            <p:cNvSpPr/>
            <p:nvPr/>
          </p:nvSpPr>
          <p:spPr>
            <a:xfrm>
              <a:off x="7362720" y="4200120"/>
              <a:ext cx="479160" cy="44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4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4467"/>
                </a:path>
              </a:pathLst>
            </a:custGeom>
            <a:noFill/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29360" y="3408480"/>
              <a:ext cx="351000" cy="109692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7612200" y="3384720"/>
            <a:ext cx="1440" cy="98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26120" y="3406680"/>
            <a:ext cx="1800" cy="182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878440" y="3406680"/>
            <a:ext cx="1800" cy="181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878440" y="5251320"/>
            <a:ext cx="1150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756840" y="1703520"/>
            <a:ext cx="340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135160" y="3421080"/>
            <a:ext cx="1111320" cy="12351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7" name=""/>
          <p:cNvGraphicFramePr/>
          <p:nvPr/>
        </p:nvGraphicFramePr>
        <p:xfrm>
          <a:off x="380880" y="1676520"/>
          <a:ext cx="8452080" cy="35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845208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0" name=""/>
          <p:cNvGraphicFramePr/>
          <p:nvPr/>
        </p:nvGraphicFramePr>
        <p:xfrm>
          <a:off x="914400" y="1785960"/>
          <a:ext cx="6764400" cy="433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85960"/>
                    <a:ext cx="6764400" cy="43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3" name=""/>
          <p:cNvGraphicFramePr/>
          <p:nvPr/>
        </p:nvGraphicFramePr>
        <p:xfrm>
          <a:off x="1066680" y="1146240"/>
          <a:ext cx="7542360" cy="52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6240"/>
                    <a:ext cx="754236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685800" y="2016000"/>
            <a:ext cx="7752600" cy="3551400"/>
            <a:chOff x="685800" y="2016000"/>
            <a:chExt cx="7752600" cy="3551400"/>
          </a:xfrm>
        </p:grpSpPr>
        <p:sp>
          <p:nvSpPr>
            <p:cNvPr id="507" name=""/>
            <p:cNvSpPr/>
            <p:nvPr/>
          </p:nvSpPr>
          <p:spPr>
            <a:xfrm>
              <a:off x="5394240" y="2093760"/>
              <a:ext cx="1800" cy="3473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394240" y="3774960"/>
              <a:ext cx="2467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5281200" y="2093760"/>
              <a:ext cx="112680" cy="22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94240" y="2093760"/>
              <a:ext cx="112680" cy="22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481120" y="2090880"/>
              <a:ext cx="1800" cy="168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81120" y="3771720"/>
              <a:ext cx="1683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370240" y="2090880"/>
              <a:ext cx="110880" cy="22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81120" y="2090880"/>
              <a:ext cx="112680" cy="22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flipV="1">
              <a:off x="3938760" y="3660840"/>
              <a:ext cx="22536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3938760" y="3771720"/>
              <a:ext cx="22536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3147840" y="2028960"/>
              <a:ext cx="111240" cy="1008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28800" y="2203560"/>
              <a:ext cx="1342800" cy="156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8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8117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798480" y="3661920"/>
              <a:ext cx="2353680" cy="1794240"/>
              <a:chOff x="798480" y="3661920"/>
              <a:chExt cx="2353680" cy="1794240"/>
            </a:xfrm>
          </p:grpSpPr>
          <p:sp>
            <p:nvSpPr>
              <p:cNvPr id="520" name=""/>
              <p:cNvSpPr/>
              <p:nvPr/>
            </p:nvSpPr>
            <p:spPr>
              <a:xfrm flipV="1">
                <a:off x="2479680" y="3774960"/>
                <a:ext cx="1440" cy="16812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798480" y="3774960"/>
                <a:ext cx="1681200" cy="1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2479680" y="5230800"/>
                <a:ext cx="112680" cy="2253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 flipV="1">
                <a:off x="2366640" y="5230800"/>
                <a:ext cx="112680" cy="2253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98480" y="3774960"/>
                <a:ext cx="223920" cy="1112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798480" y="3661920"/>
                <a:ext cx="223920" cy="11268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1695600" y="4446720"/>
                <a:ext cx="110880" cy="10094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806480" y="3774960"/>
                <a:ext cx="1345680" cy="156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918080" y="2016000"/>
              <a:ext cx="459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Ic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15200" y="5154480"/>
              <a:ext cx="459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Ic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5800" y="3249720"/>
              <a:ext cx="819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Ube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13040" y="3921120"/>
              <a:ext cx="819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Ube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5934240" y="3661920"/>
              <a:ext cx="2466720" cy="224280"/>
              <a:chOff x="5934240" y="3661920"/>
              <a:chExt cx="2466720" cy="224280"/>
            </a:xfrm>
          </p:grpSpPr>
          <p:sp>
            <p:nvSpPr>
              <p:cNvPr id="533" name=""/>
              <p:cNvSpPr/>
              <p:nvPr/>
            </p:nvSpPr>
            <p:spPr>
              <a:xfrm>
                <a:off x="5934240" y="3774960"/>
                <a:ext cx="2466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 flipV="1">
                <a:off x="8175600" y="3661920"/>
                <a:ext cx="22536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8175600" y="3774960"/>
                <a:ext cx="22536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5794560" y="2660760"/>
              <a:ext cx="901080" cy="1118880"/>
              <a:chOff x="5794560" y="2660760"/>
              <a:chExt cx="901080" cy="1118880"/>
            </a:xfrm>
          </p:grpSpPr>
          <p:sp>
            <p:nvSpPr>
              <p:cNvPr id="537" name=""/>
              <p:cNvSpPr/>
              <p:nvPr/>
            </p:nvSpPr>
            <p:spPr>
              <a:xfrm>
                <a:off x="6429240" y="3639960"/>
                <a:ext cx="266400" cy="13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794560" y="2660760"/>
                <a:ext cx="377280" cy="36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 flipV="1">
                <a:off x="6162840" y="2792520"/>
                <a:ext cx="263520" cy="917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5261040" y="3639960"/>
              <a:ext cx="266400" cy="13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786280" y="2660760"/>
              <a:ext cx="37764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5529240" y="2792520"/>
              <a:ext cx="264960" cy="917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6935760" y="3771720"/>
              <a:ext cx="901080" cy="1118880"/>
              <a:chOff x="6935760" y="3771720"/>
              <a:chExt cx="901080" cy="1118880"/>
            </a:xfrm>
          </p:grpSpPr>
          <p:sp>
            <p:nvSpPr>
              <p:cNvPr id="544" name=""/>
              <p:cNvSpPr/>
              <p:nvPr/>
            </p:nvSpPr>
            <p:spPr>
              <a:xfrm>
                <a:off x="7570800" y="3771720"/>
                <a:ext cx="266040" cy="138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935760" y="4526280"/>
                <a:ext cx="377640" cy="36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7305840" y="3841560"/>
                <a:ext cx="263520" cy="9176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6404040" y="37717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929280" y="4526280"/>
              <a:ext cx="37764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672240" y="3841560"/>
              <a:ext cx="263520" cy="9176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5645880" y="2016000"/>
              <a:ext cx="537480" cy="510480"/>
              <a:chOff x="5645880" y="2016000"/>
              <a:chExt cx="537480" cy="510480"/>
            </a:xfrm>
          </p:grpSpPr>
          <p:sp>
            <p:nvSpPr>
              <p:cNvPr id="551" name=""/>
              <p:cNvSpPr/>
              <p:nvPr/>
            </p:nvSpPr>
            <p:spPr>
              <a:xfrm>
                <a:off x="5645880" y="2016000"/>
                <a:ext cx="96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745240" y="2114640"/>
                <a:ext cx="4381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RL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8153280" y="3154320"/>
              <a:ext cx="285120" cy="454680"/>
              <a:chOff x="8153280" y="3154320"/>
              <a:chExt cx="285120" cy="454680"/>
            </a:xfrm>
          </p:grpSpPr>
          <p:sp>
            <p:nvSpPr>
              <p:cNvPr id="554" name=""/>
              <p:cNvSpPr/>
              <p:nvPr/>
            </p:nvSpPr>
            <p:spPr>
              <a:xfrm>
                <a:off x="8153280" y="3154320"/>
                <a:ext cx="2354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341560" y="3197160"/>
                <a:ext cx="96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 flipH="1">
              <a:off x="3208320" y="2646360"/>
              <a:ext cx="27748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1765080" y="4887720"/>
              <a:ext cx="535284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17400" y="1376280"/>
          <a:ext cx="8061480" cy="89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376280"/>
                    <a:ext cx="80614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"/>
          <p:cNvSpPr/>
          <p:nvPr/>
        </p:nvSpPr>
        <p:spPr>
          <a:xfrm>
            <a:off x="436680" y="1758960"/>
            <a:ext cx="8716680" cy="2580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y uniknąć występowania zniekształceń skrośnych sygnał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elementach wzmacniających stosowana jest wstępna polaryzacj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odująca przepływ niewielkieg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u spoczynkowe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wyniku czego charakterystyka przejściowa zostaje zlinearyzow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25600" y="5715000"/>
            <a:ext cx="8361720" cy="825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 spoczynko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zystorów mocy jest zależny od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konieczna jest jego stabiliz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727280" y="4927680"/>
            <a:ext cx="623412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044440" y="2778120"/>
            <a:ext cx="3933720" cy="32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531080" y="15048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28680" y="4295880"/>
            <a:ext cx="6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be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30440" y="3214440"/>
            <a:ext cx="1202760" cy="80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10037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10037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1929960" y="2128680"/>
            <a:ext cx="220680" cy="1578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90000" y="57834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28240" y="3017880"/>
            <a:ext cx="6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be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859040" y="3700440"/>
            <a:ext cx="1205640" cy="80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1641600" y="4017960"/>
            <a:ext cx="218880" cy="15811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881320" y="1859040"/>
            <a:ext cx="195120" cy="269280"/>
            <a:chOff x="5881320" y="1859040"/>
            <a:chExt cx="195120" cy="269280"/>
          </a:xfrm>
        </p:grpSpPr>
        <p:sp>
          <p:nvSpPr>
            <p:cNvPr id="576" name=""/>
            <p:cNvSpPr/>
            <p:nvPr/>
          </p:nvSpPr>
          <p:spPr>
            <a:xfrm>
              <a:off x="5979960" y="1859040"/>
              <a:ext cx="96480" cy="26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5881320" y="1859040"/>
              <a:ext cx="98280" cy="26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8548560" y="3086280"/>
            <a:ext cx="322920" cy="383400"/>
            <a:chOff x="8548560" y="3086280"/>
            <a:chExt cx="322920" cy="383400"/>
          </a:xfrm>
        </p:grpSpPr>
        <p:sp>
          <p:nvSpPr>
            <p:cNvPr id="579" name=""/>
            <p:cNvSpPr/>
            <p:nvPr/>
          </p:nvSpPr>
          <p:spPr>
            <a:xfrm>
              <a:off x="8548560" y="3086280"/>
              <a:ext cx="183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796240" y="31492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8589600" y="3716280"/>
            <a:ext cx="194760" cy="269280"/>
            <a:chOff x="8589600" y="3716280"/>
            <a:chExt cx="194760" cy="269280"/>
          </a:xfrm>
        </p:grpSpPr>
        <p:sp>
          <p:nvSpPr>
            <p:cNvPr id="582" name=""/>
            <p:cNvSpPr/>
            <p:nvPr/>
          </p:nvSpPr>
          <p:spPr>
            <a:xfrm flipH="1" flipV="1">
              <a:off x="8589600" y="3716280"/>
              <a:ext cx="19476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8589600" y="3849480"/>
              <a:ext cx="194760" cy="13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7618320" y="3813120"/>
            <a:ext cx="1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334040" y="3792600"/>
            <a:ext cx="2880" cy="13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059160" y="397188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086000" y="3905280"/>
            <a:ext cx="23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508520" y="391320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5967360" y="2781360"/>
            <a:ext cx="828000" cy="1113480"/>
            <a:chOff x="5967360" y="2781360"/>
            <a:chExt cx="828000" cy="1113480"/>
          </a:xfrm>
        </p:grpSpPr>
        <p:sp>
          <p:nvSpPr>
            <p:cNvPr id="590" name=""/>
            <p:cNvSpPr/>
            <p:nvPr/>
          </p:nvSpPr>
          <p:spPr>
            <a:xfrm>
              <a:off x="5967360" y="2781360"/>
              <a:ext cx="449280" cy="326520"/>
            </a:xfrm>
            <a:custGeom>
              <a:avLst/>
              <a:gdLst/>
              <a:ahLst/>
              <a:rect l="l" t="t" r="r" b="b"/>
              <a:pathLst>
                <a:path w="256" h="135">
                  <a:moveTo>
                    <a:pt x="8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8" y="5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7" y="7"/>
                  </a:lnTo>
                  <a:lnTo>
                    <a:pt x="69" y="8"/>
                  </a:lnTo>
                  <a:lnTo>
                    <a:pt x="71" y="8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1"/>
                  </a:lnTo>
                  <a:lnTo>
                    <a:pt x="85" y="13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99" y="16"/>
                  </a:lnTo>
                  <a:lnTo>
                    <a:pt x="101" y="17"/>
                  </a:lnTo>
                  <a:lnTo>
                    <a:pt x="104" y="17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1" y="20"/>
                  </a:lnTo>
                  <a:lnTo>
                    <a:pt x="113" y="21"/>
                  </a:lnTo>
                  <a:lnTo>
                    <a:pt x="115" y="22"/>
                  </a:lnTo>
                  <a:lnTo>
                    <a:pt x="118" y="22"/>
                  </a:lnTo>
                  <a:lnTo>
                    <a:pt x="119" y="24"/>
                  </a:lnTo>
                  <a:lnTo>
                    <a:pt x="121" y="24"/>
                  </a:lnTo>
                  <a:lnTo>
                    <a:pt x="123" y="25"/>
                  </a:lnTo>
                  <a:lnTo>
                    <a:pt x="126" y="25"/>
                  </a:lnTo>
                  <a:lnTo>
                    <a:pt x="128" y="26"/>
                  </a:lnTo>
                  <a:lnTo>
                    <a:pt x="130" y="28"/>
                  </a:lnTo>
                  <a:lnTo>
                    <a:pt x="133" y="29"/>
                  </a:lnTo>
                  <a:lnTo>
                    <a:pt x="135" y="30"/>
                  </a:lnTo>
                  <a:lnTo>
                    <a:pt x="136" y="32"/>
                  </a:lnTo>
                  <a:lnTo>
                    <a:pt x="138" y="32"/>
                  </a:lnTo>
                  <a:lnTo>
                    <a:pt x="141" y="33"/>
                  </a:lnTo>
                  <a:lnTo>
                    <a:pt x="142" y="36"/>
                  </a:lnTo>
                  <a:lnTo>
                    <a:pt x="144" y="36"/>
                  </a:lnTo>
                  <a:lnTo>
                    <a:pt x="145" y="38"/>
                  </a:lnTo>
                  <a:lnTo>
                    <a:pt x="148" y="39"/>
                  </a:lnTo>
                  <a:lnTo>
                    <a:pt x="150" y="39"/>
                  </a:lnTo>
                  <a:lnTo>
                    <a:pt x="152" y="40"/>
                  </a:lnTo>
                  <a:lnTo>
                    <a:pt x="154" y="41"/>
                  </a:lnTo>
                  <a:lnTo>
                    <a:pt x="157" y="43"/>
                  </a:lnTo>
                  <a:lnTo>
                    <a:pt x="159" y="43"/>
                  </a:lnTo>
                  <a:lnTo>
                    <a:pt x="159" y="45"/>
                  </a:lnTo>
                  <a:lnTo>
                    <a:pt x="161" y="45"/>
                  </a:lnTo>
                  <a:lnTo>
                    <a:pt x="164" y="46"/>
                  </a:lnTo>
                  <a:lnTo>
                    <a:pt x="166" y="48"/>
                  </a:lnTo>
                  <a:lnTo>
                    <a:pt x="168" y="50"/>
                  </a:lnTo>
                  <a:lnTo>
                    <a:pt x="171" y="51"/>
                  </a:lnTo>
                  <a:lnTo>
                    <a:pt x="173" y="52"/>
                  </a:lnTo>
                  <a:lnTo>
                    <a:pt x="174" y="54"/>
                  </a:lnTo>
                  <a:lnTo>
                    <a:pt x="176" y="54"/>
                  </a:lnTo>
                  <a:lnTo>
                    <a:pt x="176" y="56"/>
                  </a:lnTo>
                  <a:lnTo>
                    <a:pt x="179" y="56"/>
                  </a:lnTo>
                  <a:lnTo>
                    <a:pt x="180" y="59"/>
                  </a:lnTo>
                  <a:lnTo>
                    <a:pt x="182" y="59"/>
                  </a:lnTo>
                  <a:lnTo>
                    <a:pt x="183" y="61"/>
                  </a:lnTo>
                  <a:lnTo>
                    <a:pt x="186" y="61"/>
                  </a:lnTo>
                  <a:lnTo>
                    <a:pt x="187" y="63"/>
                  </a:lnTo>
                  <a:lnTo>
                    <a:pt x="189" y="63"/>
                  </a:lnTo>
                  <a:lnTo>
                    <a:pt x="190" y="66"/>
                  </a:lnTo>
                  <a:lnTo>
                    <a:pt x="193" y="67"/>
                  </a:lnTo>
                  <a:lnTo>
                    <a:pt x="195" y="68"/>
                  </a:lnTo>
                  <a:lnTo>
                    <a:pt x="196" y="70"/>
                  </a:lnTo>
                  <a:lnTo>
                    <a:pt x="197" y="73"/>
                  </a:lnTo>
                  <a:lnTo>
                    <a:pt x="200" y="74"/>
                  </a:lnTo>
                  <a:lnTo>
                    <a:pt x="201" y="76"/>
                  </a:lnTo>
                  <a:lnTo>
                    <a:pt x="203" y="77"/>
                  </a:lnTo>
                  <a:lnTo>
                    <a:pt x="205" y="77"/>
                  </a:lnTo>
                  <a:lnTo>
                    <a:pt x="206" y="80"/>
                  </a:lnTo>
                  <a:lnTo>
                    <a:pt x="209" y="81"/>
                  </a:lnTo>
                  <a:lnTo>
                    <a:pt x="209" y="83"/>
                  </a:lnTo>
                  <a:lnTo>
                    <a:pt x="211" y="84"/>
                  </a:lnTo>
                  <a:lnTo>
                    <a:pt x="211" y="87"/>
                  </a:lnTo>
                  <a:lnTo>
                    <a:pt x="213" y="88"/>
                  </a:lnTo>
                  <a:lnTo>
                    <a:pt x="215" y="90"/>
                  </a:lnTo>
                  <a:lnTo>
                    <a:pt x="217" y="90"/>
                  </a:lnTo>
                  <a:lnTo>
                    <a:pt x="218" y="92"/>
                  </a:lnTo>
                  <a:lnTo>
                    <a:pt x="220" y="93"/>
                  </a:lnTo>
                  <a:lnTo>
                    <a:pt x="221" y="96"/>
                  </a:lnTo>
                  <a:lnTo>
                    <a:pt x="224" y="97"/>
                  </a:lnTo>
                  <a:lnTo>
                    <a:pt x="225" y="99"/>
                  </a:lnTo>
                  <a:lnTo>
                    <a:pt x="227" y="100"/>
                  </a:lnTo>
                  <a:lnTo>
                    <a:pt x="228" y="103"/>
                  </a:lnTo>
                  <a:lnTo>
                    <a:pt x="231" y="104"/>
                  </a:lnTo>
                  <a:lnTo>
                    <a:pt x="231" y="106"/>
                  </a:lnTo>
                  <a:lnTo>
                    <a:pt x="232" y="108"/>
                  </a:lnTo>
                  <a:lnTo>
                    <a:pt x="234" y="108"/>
                  </a:lnTo>
                  <a:lnTo>
                    <a:pt x="235" y="111"/>
                  </a:lnTo>
                  <a:lnTo>
                    <a:pt x="238" y="112"/>
                  </a:lnTo>
                  <a:lnTo>
                    <a:pt x="239" y="114"/>
                  </a:lnTo>
                  <a:lnTo>
                    <a:pt x="241" y="115"/>
                  </a:lnTo>
                  <a:lnTo>
                    <a:pt x="242" y="118"/>
                  </a:lnTo>
                  <a:lnTo>
                    <a:pt x="242" y="120"/>
                  </a:lnTo>
                  <a:lnTo>
                    <a:pt x="245" y="121"/>
                  </a:lnTo>
                  <a:lnTo>
                    <a:pt x="246" y="123"/>
                  </a:lnTo>
                  <a:lnTo>
                    <a:pt x="248" y="125"/>
                  </a:lnTo>
                  <a:lnTo>
                    <a:pt x="249" y="127"/>
                  </a:lnTo>
                  <a:lnTo>
                    <a:pt x="252" y="129"/>
                  </a:lnTo>
                  <a:lnTo>
                    <a:pt x="254" y="130"/>
                  </a:lnTo>
                  <a:lnTo>
                    <a:pt x="254" y="133"/>
                  </a:lnTo>
                  <a:lnTo>
                    <a:pt x="256" y="133"/>
                  </a:lnTo>
                  <a:lnTo>
                    <a:pt x="256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05840" y="3088800"/>
              <a:ext cx="389520" cy="80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5500800" y="2782800"/>
            <a:ext cx="452160" cy="327240"/>
          </a:xfrm>
          <a:custGeom>
            <a:avLst/>
            <a:gdLst/>
            <a:ahLst/>
            <a:rect l="l" t="t" r="r" b="b"/>
            <a:pathLst>
              <a:path w="257" h="135">
                <a:moveTo>
                  <a:pt x="249" y="0"/>
                </a:moveTo>
                <a:lnTo>
                  <a:pt x="257" y="0"/>
                </a:lnTo>
                <a:lnTo>
                  <a:pt x="254" y="0"/>
                </a:lnTo>
                <a:lnTo>
                  <a:pt x="252" y="0"/>
                </a:lnTo>
                <a:lnTo>
                  <a:pt x="250" y="1"/>
                </a:lnTo>
                <a:lnTo>
                  <a:pt x="247" y="1"/>
                </a:lnTo>
                <a:lnTo>
                  <a:pt x="245" y="1"/>
                </a:lnTo>
                <a:lnTo>
                  <a:pt x="243" y="2"/>
                </a:lnTo>
                <a:lnTo>
                  <a:pt x="240" y="2"/>
                </a:lnTo>
                <a:lnTo>
                  <a:pt x="238" y="2"/>
                </a:lnTo>
                <a:lnTo>
                  <a:pt x="236" y="2"/>
                </a:lnTo>
                <a:lnTo>
                  <a:pt x="233" y="2"/>
                </a:lnTo>
                <a:lnTo>
                  <a:pt x="231" y="2"/>
                </a:lnTo>
                <a:lnTo>
                  <a:pt x="229" y="2"/>
                </a:lnTo>
                <a:lnTo>
                  <a:pt x="227" y="2"/>
                </a:lnTo>
                <a:lnTo>
                  <a:pt x="224" y="2"/>
                </a:lnTo>
                <a:lnTo>
                  <a:pt x="222" y="2"/>
                </a:lnTo>
                <a:lnTo>
                  <a:pt x="220" y="4"/>
                </a:lnTo>
                <a:lnTo>
                  <a:pt x="217" y="5"/>
                </a:lnTo>
                <a:lnTo>
                  <a:pt x="215" y="5"/>
                </a:lnTo>
                <a:lnTo>
                  <a:pt x="213" y="5"/>
                </a:lnTo>
                <a:lnTo>
                  <a:pt x="210" y="5"/>
                </a:lnTo>
                <a:lnTo>
                  <a:pt x="208" y="5"/>
                </a:lnTo>
                <a:lnTo>
                  <a:pt x="206" y="5"/>
                </a:lnTo>
                <a:lnTo>
                  <a:pt x="203" y="6"/>
                </a:lnTo>
                <a:lnTo>
                  <a:pt x="201" y="6"/>
                </a:lnTo>
                <a:lnTo>
                  <a:pt x="199" y="6"/>
                </a:lnTo>
                <a:lnTo>
                  <a:pt x="197" y="6"/>
                </a:lnTo>
                <a:lnTo>
                  <a:pt x="194" y="6"/>
                </a:lnTo>
                <a:lnTo>
                  <a:pt x="192" y="7"/>
                </a:lnTo>
                <a:lnTo>
                  <a:pt x="190" y="7"/>
                </a:lnTo>
                <a:lnTo>
                  <a:pt x="187" y="8"/>
                </a:lnTo>
                <a:lnTo>
                  <a:pt x="185" y="8"/>
                </a:lnTo>
                <a:lnTo>
                  <a:pt x="183" y="9"/>
                </a:lnTo>
                <a:lnTo>
                  <a:pt x="180" y="9"/>
                </a:lnTo>
                <a:lnTo>
                  <a:pt x="178" y="10"/>
                </a:lnTo>
                <a:lnTo>
                  <a:pt x="176" y="12"/>
                </a:lnTo>
                <a:lnTo>
                  <a:pt x="173" y="12"/>
                </a:lnTo>
                <a:lnTo>
                  <a:pt x="171" y="13"/>
                </a:lnTo>
                <a:lnTo>
                  <a:pt x="169" y="13"/>
                </a:lnTo>
                <a:lnTo>
                  <a:pt x="166" y="13"/>
                </a:lnTo>
                <a:lnTo>
                  <a:pt x="164" y="13"/>
                </a:lnTo>
                <a:lnTo>
                  <a:pt x="162" y="15"/>
                </a:lnTo>
                <a:lnTo>
                  <a:pt x="160" y="15"/>
                </a:lnTo>
                <a:lnTo>
                  <a:pt x="157" y="16"/>
                </a:lnTo>
                <a:lnTo>
                  <a:pt x="155" y="17"/>
                </a:lnTo>
                <a:lnTo>
                  <a:pt x="153" y="17"/>
                </a:lnTo>
                <a:lnTo>
                  <a:pt x="150" y="19"/>
                </a:lnTo>
                <a:lnTo>
                  <a:pt x="148" y="19"/>
                </a:lnTo>
                <a:lnTo>
                  <a:pt x="146" y="20"/>
                </a:lnTo>
                <a:lnTo>
                  <a:pt x="143" y="21"/>
                </a:lnTo>
                <a:lnTo>
                  <a:pt x="141" y="22"/>
                </a:lnTo>
                <a:lnTo>
                  <a:pt x="139" y="22"/>
                </a:lnTo>
                <a:lnTo>
                  <a:pt x="138" y="24"/>
                </a:lnTo>
                <a:lnTo>
                  <a:pt x="135" y="24"/>
                </a:lnTo>
                <a:lnTo>
                  <a:pt x="133" y="25"/>
                </a:lnTo>
                <a:lnTo>
                  <a:pt x="131" y="25"/>
                </a:lnTo>
                <a:lnTo>
                  <a:pt x="128" y="27"/>
                </a:lnTo>
                <a:lnTo>
                  <a:pt x="126" y="28"/>
                </a:lnTo>
                <a:lnTo>
                  <a:pt x="124" y="29"/>
                </a:lnTo>
                <a:lnTo>
                  <a:pt x="121" y="30"/>
                </a:lnTo>
                <a:lnTo>
                  <a:pt x="120" y="32"/>
                </a:lnTo>
                <a:lnTo>
                  <a:pt x="118" y="32"/>
                </a:lnTo>
                <a:lnTo>
                  <a:pt x="116" y="34"/>
                </a:lnTo>
                <a:lnTo>
                  <a:pt x="115" y="36"/>
                </a:lnTo>
                <a:lnTo>
                  <a:pt x="112" y="36"/>
                </a:lnTo>
                <a:lnTo>
                  <a:pt x="111" y="38"/>
                </a:lnTo>
                <a:lnTo>
                  <a:pt x="109" y="39"/>
                </a:lnTo>
                <a:lnTo>
                  <a:pt x="106" y="39"/>
                </a:lnTo>
                <a:lnTo>
                  <a:pt x="104" y="40"/>
                </a:lnTo>
                <a:lnTo>
                  <a:pt x="102" y="42"/>
                </a:lnTo>
                <a:lnTo>
                  <a:pt x="99" y="43"/>
                </a:lnTo>
                <a:lnTo>
                  <a:pt x="97" y="43"/>
                </a:lnTo>
                <a:lnTo>
                  <a:pt x="97" y="45"/>
                </a:lnTo>
                <a:lnTo>
                  <a:pt x="95" y="45"/>
                </a:lnTo>
                <a:lnTo>
                  <a:pt x="93" y="46"/>
                </a:lnTo>
                <a:lnTo>
                  <a:pt x="90" y="49"/>
                </a:lnTo>
                <a:lnTo>
                  <a:pt x="88" y="50"/>
                </a:lnTo>
                <a:lnTo>
                  <a:pt x="86" y="51"/>
                </a:lnTo>
                <a:lnTo>
                  <a:pt x="83" y="52"/>
                </a:lnTo>
                <a:lnTo>
                  <a:pt x="82" y="54"/>
                </a:lnTo>
                <a:lnTo>
                  <a:pt x="80" y="54"/>
                </a:lnTo>
                <a:lnTo>
                  <a:pt x="80" y="57"/>
                </a:lnTo>
                <a:lnTo>
                  <a:pt x="78" y="57"/>
                </a:lnTo>
                <a:lnTo>
                  <a:pt x="76" y="59"/>
                </a:lnTo>
                <a:lnTo>
                  <a:pt x="74" y="59"/>
                </a:lnTo>
                <a:lnTo>
                  <a:pt x="73" y="61"/>
                </a:lnTo>
                <a:lnTo>
                  <a:pt x="71" y="61"/>
                </a:lnTo>
                <a:lnTo>
                  <a:pt x="69" y="64"/>
                </a:lnTo>
                <a:lnTo>
                  <a:pt x="67" y="64"/>
                </a:lnTo>
                <a:lnTo>
                  <a:pt x="66" y="66"/>
                </a:lnTo>
                <a:lnTo>
                  <a:pt x="64" y="67"/>
                </a:lnTo>
                <a:lnTo>
                  <a:pt x="61" y="68"/>
                </a:lnTo>
                <a:lnTo>
                  <a:pt x="60" y="71"/>
                </a:lnTo>
                <a:lnTo>
                  <a:pt x="59" y="73"/>
                </a:lnTo>
                <a:lnTo>
                  <a:pt x="57" y="74"/>
                </a:lnTo>
                <a:lnTo>
                  <a:pt x="56" y="76"/>
                </a:lnTo>
                <a:lnTo>
                  <a:pt x="53" y="77"/>
                </a:lnTo>
                <a:lnTo>
                  <a:pt x="51" y="77"/>
                </a:lnTo>
                <a:lnTo>
                  <a:pt x="50" y="80"/>
                </a:lnTo>
                <a:lnTo>
                  <a:pt x="48" y="81"/>
                </a:lnTo>
                <a:lnTo>
                  <a:pt x="48" y="83"/>
                </a:lnTo>
                <a:lnTo>
                  <a:pt x="45" y="84"/>
                </a:lnTo>
                <a:lnTo>
                  <a:pt x="45" y="87"/>
                </a:lnTo>
                <a:lnTo>
                  <a:pt x="43" y="88"/>
                </a:lnTo>
                <a:lnTo>
                  <a:pt x="42" y="90"/>
                </a:lnTo>
                <a:lnTo>
                  <a:pt x="39" y="90"/>
                </a:lnTo>
                <a:lnTo>
                  <a:pt x="38" y="92"/>
                </a:lnTo>
                <a:lnTo>
                  <a:pt x="36" y="94"/>
                </a:lnTo>
                <a:lnTo>
                  <a:pt x="35" y="96"/>
                </a:lnTo>
                <a:lnTo>
                  <a:pt x="32" y="97"/>
                </a:lnTo>
                <a:lnTo>
                  <a:pt x="31" y="99"/>
                </a:lnTo>
                <a:lnTo>
                  <a:pt x="29" y="101"/>
                </a:lnTo>
                <a:lnTo>
                  <a:pt x="28" y="103"/>
                </a:lnTo>
                <a:lnTo>
                  <a:pt x="26" y="104"/>
                </a:lnTo>
                <a:lnTo>
                  <a:pt x="26" y="106"/>
                </a:lnTo>
                <a:lnTo>
                  <a:pt x="24" y="109"/>
                </a:lnTo>
                <a:lnTo>
                  <a:pt x="22" y="109"/>
                </a:lnTo>
                <a:lnTo>
                  <a:pt x="21" y="111"/>
                </a:lnTo>
                <a:lnTo>
                  <a:pt x="19" y="112"/>
                </a:lnTo>
                <a:lnTo>
                  <a:pt x="17" y="114"/>
                </a:lnTo>
                <a:lnTo>
                  <a:pt x="15" y="116"/>
                </a:lnTo>
                <a:lnTo>
                  <a:pt x="14" y="118"/>
                </a:lnTo>
                <a:lnTo>
                  <a:pt x="14" y="120"/>
                </a:lnTo>
                <a:lnTo>
                  <a:pt x="12" y="121"/>
                </a:lnTo>
                <a:lnTo>
                  <a:pt x="11" y="124"/>
                </a:lnTo>
                <a:lnTo>
                  <a:pt x="8" y="125"/>
                </a:lnTo>
                <a:lnTo>
                  <a:pt x="7" y="127"/>
                </a:lnTo>
                <a:lnTo>
                  <a:pt x="5" y="129"/>
                </a:lnTo>
                <a:lnTo>
                  <a:pt x="2" y="131"/>
                </a:lnTo>
                <a:lnTo>
                  <a:pt x="2" y="133"/>
                </a:lnTo>
                <a:lnTo>
                  <a:pt x="0" y="133"/>
                </a:lnTo>
                <a:lnTo>
                  <a:pt x="0" y="13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5121000" y="3090960"/>
            <a:ext cx="390600" cy="80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4332240" y="3811320"/>
            <a:ext cx="829800" cy="1116000"/>
            <a:chOff x="4332240" y="3811320"/>
            <a:chExt cx="829800" cy="1116000"/>
          </a:xfrm>
        </p:grpSpPr>
        <p:sp>
          <p:nvSpPr>
            <p:cNvPr id="595" name=""/>
            <p:cNvSpPr/>
            <p:nvPr/>
          </p:nvSpPr>
          <p:spPr>
            <a:xfrm>
              <a:off x="4332240" y="4600080"/>
              <a:ext cx="450360" cy="327240"/>
            </a:xfrm>
            <a:custGeom>
              <a:avLst/>
              <a:gdLst/>
              <a:ahLst/>
              <a:rect l="l" t="t" r="r" b="b"/>
              <a:pathLst>
                <a:path w="256" h="135">
                  <a:moveTo>
                    <a:pt x="8" y="135"/>
                  </a:moveTo>
                  <a:lnTo>
                    <a:pt x="0" y="135"/>
                  </a:lnTo>
                  <a:lnTo>
                    <a:pt x="2" y="135"/>
                  </a:lnTo>
                  <a:lnTo>
                    <a:pt x="4" y="135"/>
                  </a:lnTo>
                  <a:lnTo>
                    <a:pt x="7" y="134"/>
                  </a:lnTo>
                  <a:lnTo>
                    <a:pt x="9" y="134"/>
                  </a:lnTo>
                  <a:lnTo>
                    <a:pt x="11" y="134"/>
                  </a:lnTo>
                  <a:lnTo>
                    <a:pt x="14" y="132"/>
                  </a:lnTo>
                  <a:lnTo>
                    <a:pt x="16" y="132"/>
                  </a:lnTo>
                  <a:lnTo>
                    <a:pt x="18" y="132"/>
                  </a:lnTo>
                  <a:lnTo>
                    <a:pt x="21" y="132"/>
                  </a:lnTo>
                  <a:lnTo>
                    <a:pt x="23" y="132"/>
                  </a:lnTo>
                  <a:lnTo>
                    <a:pt x="25" y="132"/>
                  </a:lnTo>
                  <a:lnTo>
                    <a:pt x="27" y="132"/>
                  </a:lnTo>
                  <a:lnTo>
                    <a:pt x="30" y="132"/>
                  </a:lnTo>
                  <a:lnTo>
                    <a:pt x="32" y="132"/>
                  </a:lnTo>
                  <a:lnTo>
                    <a:pt x="34" y="132"/>
                  </a:lnTo>
                  <a:lnTo>
                    <a:pt x="37" y="131"/>
                  </a:lnTo>
                  <a:lnTo>
                    <a:pt x="39" y="130"/>
                  </a:lnTo>
                  <a:lnTo>
                    <a:pt x="41" y="130"/>
                  </a:lnTo>
                  <a:lnTo>
                    <a:pt x="44" y="130"/>
                  </a:lnTo>
                  <a:lnTo>
                    <a:pt x="46" y="130"/>
                  </a:lnTo>
                  <a:lnTo>
                    <a:pt x="48" y="130"/>
                  </a:lnTo>
                  <a:lnTo>
                    <a:pt x="51" y="130"/>
                  </a:lnTo>
                  <a:lnTo>
                    <a:pt x="53" y="129"/>
                  </a:lnTo>
                  <a:lnTo>
                    <a:pt x="55" y="129"/>
                  </a:lnTo>
                  <a:lnTo>
                    <a:pt x="58" y="129"/>
                  </a:lnTo>
                  <a:lnTo>
                    <a:pt x="60" y="129"/>
                  </a:lnTo>
                  <a:lnTo>
                    <a:pt x="62" y="129"/>
                  </a:lnTo>
                  <a:lnTo>
                    <a:pt x="64" y="128"/>
                  </a:lnTo>
                  <a:lnTo>
                    <a:pt x="67" y="128"/>
                  </a:lnTo>
                  <a:lnTo>
                    <a:pt x="69" y="127"/>
                  </a:lnTo>
                  <a:lnTo>
                    <a:pt x="71" y="127"/>
                  </a:lnTo>
                  <a:lnTo>
                    <a:pt x="74" y="125"/>
                  </a:lnTo>
                  <a:lnTo>
                    <a:pt x="76" y="125"/>
                  </a:lnTo>
                  <a:lnTo>
                    <a:pt x="78" y="124"/>
                  </a:lnTo>
                  <a:lnTo>
                    <a:pt x="81" y="123"/>
                  </a:lnTo>
                  <a:lnTo>
                    <a:pt x="83" y="123"/>
                  </a:lnTo>
                  <a:lnTo>
                    <a:pt x="85" y="122"/>
                  </a:lnTo>
                  <a:lnTo>
                    <a:pt x="88" y="122"/>
                  </a:lnTo>
                  <a:lnTo>
                    <a:pt x="90" y="122"/>
                  </a:lnTo>
                  <a:lnTo>
                    <a:pt x="92" y="122"/>
                  </a:lnTo>
                  <a:lnTo>
                    <a:pt x="94" y="120"/>
                  </a:lnTo>
                  <a:lnTo>
                    <a:pt x="97" y="120"/>
                  </a:lnTo>
                  <a:lnTo>
                    <a:pt x="99" y="119"/>
                  </a:lnTo>
                  <a:lnTo>
                    <a:pt x="101" y="117"/>
                  </a:lnTo>
                  <a:lnTo>
                    <a:pt x="104" y="117"/>
                  </a:lnTo>
                  <a:lnTo>
                    <a:pt x="106" y="116"/>
                  </a:lnTo>
                  <a:lnTo>
                    <a:pt x="108" y="116"/>
                  </a:lnTo>
                  <a:lnTo>
                    <a:pt x="111" y="115"/>
                  </a:lnTo>
                  <a:lnTo>
                    <a:pt x="113" y="114"/>
                  </a:lnTo>
                  <a:lnTo>
                    <a:pt x="115" y="113"/>
                  </a:lnTo>
                  <a:lnTo>
                    <a:pt x="118" y="113"/>
                  </a:lnTo>
                  <a:lnTo>
                    <a:pt x="119" y="110"/>
                  </a:lnTo>
                  <a:lnTo>
                    <a:pt x="121" y="110"/>
                  </a:lnTo>
                  <a:lnTo>
                    <a:pt x="123" y="109"/>
                  </a:lnTo>
                  <a:lnTo>
                    <a:pt x="126" y="109"/>
                  </a:lnTo>
                  <a:lnTo>
                    <a:pt x="128" y="108"/>
                  </a:lnTo>
                  <a:lnTo>
                    <a:pt x="130" y="107"/>
                  </a:lnTo>
                  <a:lnTo>
                    <a:pt x="133" y="106"/>
                  </a:lnTo>
                  <a:lnTo>
                    <a:pt x="135" y="105"/>
                  </a:lnTo>
                  <a:lnTo>
                    <a:pt x="136" y="102"/>
                  </a:lnTo>
                  <a:lnTo>
                    <a:pt x="138" y="102"/>
                  </a:lnTo>
                  <a:lnTo>
                    <a:pt x="141" y="101"/>
                  </a:lnTo>
                  <a:lnTo>
                    <a:pt x="142" y="99"/>
                  </a:lnTo>
                  <a:lnTo>
                    <a:pt x="144" y="99"/>
                  </a:lnTo>
                  <a:lnTo>
                    <a:pt x="145" y="97"/>
                  </a:lnTo>
                  <a:lnTo>
                    <a:pt x="148" y="95"/>
                  </a:lnTo>
                  <a:lnTo>
                    <a:pt x="150" y="95"/>
                  </a:lnTo>
                  <a:lnTo>
                    <a:pt x="152" y="94"/>
                  </a:lnTo>
                  <a:lnTo>
                    <a:pt x="155" y="93"/>
                  </a:lnTo>
                  <a:lnTo>
                    <a:pt x="157" y="92"/>
                  </a:lnTo>
                  <a:lnTo>
                    <a:pt x="159" y="92"/>
                  </a:lnTo>
                  <a:lnTo>
                    <a:pt x="159" y="90"/>
                  </a:lnTo>
                  <a:lnTo>
                    <a:pt x="161" y="90"/>
                  </a:lnTo>
                  <a:lnTo>
                    <a:pt x="164" y="89"/>
                  </a:lnTo>
                  <a:lnTo>
                    <a:pt x="166" y="86"/>
                  </a:lnTo>
                  <a:lnTo>
                    <a:pt x="168" y="85"/>
                  </a:lnTo>
                  <a:lnTo>
                    <a:pt x="171" y="84"/>
                  </a:lnTo>
                  <a:lnTo>
                    <a:pt x="173" y="83"/>
                  </a:lnTo>
                  <a:lnTo>
                    <a:pt x="174" y="80"/>
                  </a:lnTo>
                  <a:lnTo>
                    <a:pt x="177" y="80"/>
                  </a:lnTo>
                  <a:lnTo>
                    <a:pt x="177" y="78"/>
                  </a:lnTo>
                  <a:lnTo>
                    <a:pt x="179" y="78"/>
                  </a:lnTo>
                  <a:lnTo>
                    <a:pt x="180" y="76"/>
                  </a:lnTo>
                  <a:lnTo>
                    <a:pt x="182" y="76"/>
                  </a:lnTo>
                  <a:lnTo>
                    <a:pt x="183" y="73"/>
                  </a:lnTo>
                  <a:lnTo>
                    <a:pt x="186" y="73"/>
                  </a:lnTo>
                  <a:lnTo>
                    <a:pt x="187" y="71"/>
                  </a:lnTo>
                  <a:lnTo>
                    <a:pt x="189" y="71"/>
                  </a:lnTo>
                  <a:lnTo>
                    <a:pt x="190" y="69"/>
                  </a:lnTo>
                  <a:lnTo>
                    <a:pt x="193" y="68"/>
                  </a:lnTo>
                  <a:lnTo>
                    <a:pt x="195" y="67"/>
                  </a:lnTo>
                  <a:lnTo>
                    <a:pt x="196" y="64"/>
                  </a:lnTo>
                  <a:lnTo>
                    <a:pt x="197" y="62"/>
                  </a:lnTo>
                  <a:lnTo>
                    <a:pt x="200" y="61"/>
                  </a:lnTo>
                  <a:lnTo>
                    <a:pt x="201" y="58"/>
                  </a:lnTo>
                  <a:lnTo>
                    <a:pt x="203" y="57"/>
                  </a:lnTo>
                  <a:lnTo>
                    <a:pt x="205" y="57"/>
                  </a:lnTo>
                  <a:lnTo>
                    <a:pt x="207" y="55"/>
                  </a:lnTo>
                  <a:lnTo>
                    <a:pt x="209" y="54"/>
                  </a:lnTo>
                  <a:lnTo>
                    <a:pt x="209" y="52"/>
                  </a:lnTo>
                  <a:lnTo>
                    <a:pt x="211" y="50"/>
                  </a:lnTo>
                  <a:lnTo>
                    <a:pt x="211" y="48"/>
                  </a:lnTo>
                  <a:lnTo>
                    <a:pt x="213" y="47"/>
                  </a:lnTo>
                  <a:lnTo>
                    <a:pt x="215" y="45"/>
                  </a:lnTo>
                  <a:lnTo>
                    <a:pt x="217" y="45"/>
                  </a:lnTo>
                  <a:lnTo>
                    <a:pt x="218" y="42"/>
                  </a:lnTo>
                  <a:lnTo>
                    <a:pt x="220" y="41"/>
                  </a:lnTo>
                  <a:lnTo>
                    <a:pt x="222" y="39"/>
                  </a:lnTo>
                  <a:lnTo>
                    <a:pt x="224" y="38"/>
                  </a:lnTo>
                  <a:lnTo>
                    <a:pt x="225" y="35"/>
                  </a:lnTo>
                  <a:lnTo>
                    <a:pt x="227" y="34"/>
                  </a:lnTo>
                  <a:lnTo>
                    <a:pt x="228" y="32"/>
                  </a:lnTo>
                  <a:lnTo>
                    <a:pt x="231" y="31"/>
                  </a:lnTo>
                  <a:lnTo>
                    <a:pt x="231" y="28"/>
                  </a:lnTo>
                  <a:lnTo>
                    <a:pt x="232" y="26"/>
                  </a:lnTo>
                  <a:lnTo>
                    <a:pt x="234" y="26"/>
                  </a:lnTo>
                  <a:lnTo>
                    <a:pt x="235" y="24"/>
                  </a:lnTo>
                  <a:lnTo>
                    <a:pt x="238" y="23"/>
                  </a:lnTo>
                  <a:lnTo>
                    <a:pt x="239" y="20"/>
                  </a:lnTo>
                  <a:lnTo>
                    <a:pt x="241" y="19"/>
                  </a:lnTo>
                  <a:lnTo>
                    <a:pt x="242" y="17"/>
                  </a:lnTo>
                  <a:lnTo>
                    <a:pt x="242" y="15"/>
                  </a:lnTo>
                  <a:lnTo>
                    <a:pt x="245" y="13"/>
                  </a:lnTo>
                  <a:lnTo>
                    <a:pt x="246" y="11"/>
                  </a:lnTo>
                  <a:lnTo>
                    <a:pt x="248" y="10"/>
                  </a:lnTo>
                  <a:lnTo>
                    <a:pt x="249" y="8"/>
                  </a:lnTo>
                  <a:lnTo>
                    <a:pt x="252" y="5"/>
                  </a:lnTo>
                  <a:lnTo>
                    <a:pt x="254" y="4"/>
                  </a:lnTo>
                  <a:lnTo>
                    <a:pt x="254" y="2"/>
                  </a:lnTo>
                  <a:lnTo>
                    <a:pt x="256" y="2"/>
                  </a:lnTo>
                  <a:lnTo>
                    <a:pt x="25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4771800" y="3811320"/>
              <a:ext cx="390240" cy="807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6757920" y="3811320"/>
            <a:ext cx="829800" cy="1116000"/>
            <a:chOff x="6757920" y="3811320"/>
            <a:chExt cx="829800" cy="1116000"/>
          </a:xfrm>
        </p:grpSpPr>
        <p:sp>
          <p:nvSpPr>
            <p:cNvPr id="598" name=""/>
            <p:cNvSpPr/>
            <p:nvPr/>
          </p:nvSpPr>
          <p:spPr>
            <a:xfrm>
              <a:off x="7137000" y="4600080"/>
              <a:ext cx="450720" cy="327240"/>
            </a:xfrm>
            <a:custGeom>
              <a:avLst/>
              <a:gdLst/>
              <a:ahLst/>
              <a:rect l="l" t="t" r="r" b="b"/>
              <a:pathLst>
                <a:path w="257" h="135">
                  <a:moveTo>
                    <a:pt x="249" y="135"/>
                  </a:moveTo>
                  <a:lnTo>
                    <a:pt x="257" y="135"/>
                  </a:lnTo>
                  <a:lnTo>
                    <a:pt x="254" y="135"/>
                  </a:lnTo>
                  <a:lnTo>
                    <a:pt x="252" y="135"/>
                  </a:lnTo>
                  <a:lnTo>
                    <a:pt x="250" y="134"/>
                  </a:lnTo>
                  <a:lnTo>
                    <a:pt x="247" y="134"/>
                  </a:lnTo>
                  <a:lnTo>
                    <a:pt x="245" y="134"/>
                  </a:lnTo>
                  <a:lnTo>
                    <a:pt x="243" y="132"/>
                  </a:lnTo>
                  <a:lnTo>
                    <a:pt x="240" y="132"/>
                  </a:lnTo>
                  <a:lnTo>
                    <a:pt x="238" y="132"/>
                  </a:lnTo>
                  <a:lnTo>
                    <a:pt x="236" y="132"/>
                  </a:lnTo>
                  <a:lnTo>
                    <a:pt x="234" y="132"/>
                  </a:lnTo>
                  <a:lnTo>
                    <a:pt x="231" y="132"/>
                  </a:lnTo>
                  <a:lnTo>
                    <a:pt x="229" y="132"/>
                  </a:lnTo>
                  <a:lnTo>
                    <a:pt x="227" y="132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0" y="131"/>
                  </a:lnTo>
                  <a:lnTo>
                    <a:pt x="217" y="130"/>
                  </a:lnTo>
                  <a:lnTo>
                    <a:pt x="215" y="130"/>
                  </a:lnTo>
                  <a:lnTo>
                    <a:pt x="213" y="130"/>
                  </a:lnTo>
                  <a:lnTo>
                    <a:pt x="210" y="130"/>
                  </a:lnTo>
                  <a:lnTo>
                    <a:pt x="208" y="130"/>
                  </a:lnTo>
                  <a:lnTo>
                    <a:pt x="206" y="130"/>
                  </a:lnTo>
                  <a:lnTo>
                    <a:pt x="204" y="129"/>
                  </a:lnTo>
                  <a:lnTo>
                    <a:pt x="201" y="129"/>
                  </a:lnTo>
                  <a:lnTo>
                    <a:pt x="199" y="129"/>
                  </a:lnTo>
                  <a:lnTo>
                    <a:pt x="197" y="129"/>
                  </a:lnTo>
                  <a:lnTo>
                    <a:pt x="194" y="129"/>
                  </a:lnTo>
                  <a:lnTo>
                    <a:pt x="192" y="128"/>
                  </a:lnTo>
                  <a:lnTo>
                    <a:pt x="190" y="128"/>
                  </a:lnTo>
                  <a:lnTo>
                    <a:pt x="187" y="127"/>
                  </a:lnTo>
                  <a:lnTo>
                    <a:pt x="185" y="127"/>
                  </a:lnTo>
                  <a:lnTo>
                    <a:pt x="183" y="125"/>
                  </a:lnTo>
                  <a:lnTo>
                    <a:pt x="180" y="125"/>
                  </a:lnTo>
                  <a:lnTo>
                    <a:pt x="178" y="124"/>
                  </a:lnTo>
                  <a:lnTo>
                    <a:pt x="176" y="123"/>
                  </a:lnTo>
                  <a:lnTo>
                    <a:pt x="173" y="123"/>
                  </a:lnTo>
                  <a:lnTo>
                    <a:pt x="171" y="122"/>
                  </a:lnTo>
                  <a:lnTo>
                    <a:pt x="169" y="122"/>
                  </a:lnTo>
                  <a:lnTo>
                    <a:pt x="167" y="122"/>
                  </a:lnTo>
                  <a:lnTo>
                    <a:pt x="164" y="122"/>
                  </a:lnTo>
                  <a:lnTo>
                    <a:pt x="162" y="120"/>
                  </a:lnTo>
                  <a:lnTo>
                    <a:pt x="160" y="120"/>
                  </a:lnTo>
                  <a:lnTo>
                    <a:pt x="157" y="119"/>
                  </a:lnTo>
                  <a:lnTo>
                    <a:pt x="155" y="117"/>
                  </a:lnTo>
                  <a:lnTo>
                    <a:pt x="153" y="117"/>
                  </a:lnTo>
                  <a:lnTo>
                    <a:pt x="150" y="116"/>
                  </a:lnTo>
                  <a:lnTo>
                    <a:pt x="148" y="116"/>
                  </a:lnTo>
                  <a:lnTo>
                    <a:pt x="146" y="115"/>
                  </a:lnTo>
                  <a:lnTo>
                    <a:pt x="143" y="114"/>
                  </a:lnTo>
                  <a:lnTo>
                    <a:pt x="141" y="113"/>
                  </a:lnTo>
                  <a:lnTo>
                    <a:pt x="139" y="113"/>
                  </a:lnTo>
                  <a:lnTo>
                    <a:pt x="138" y="110"/>
                  </a:lnTo>
                  <a:lnTo>
                    <a:pt x="135" y="110"/>
                  </a:lnTo>
                  <a:lnTo>
                    <a:pt x="133" y="109"/>
                  </a:lnTo>
                  <a:lnTo>
                    <a:pt x="131" y="109"/>
                  </a:lnTo>
                  <a:lnTo>
                    <a:pt x="128" y="108"/>
                  </a:lnTo>
                  <a:lnTo>
                    <a:pt x="126" y="107"/>
                  </a:lnTo>
                  <a:lnTo>
                    <a:pt x="124" y="106"/>
                  </a:lnTo>
                  <a:lnTo>
                    <a:pt x="122" y="105"/>
                  </a:lnTo>
                  <a:lnTo>
                    <a:pt x="120" y="102"/>
                  </a:lnTo>
                  <a:lnTo>
                    <a:pt x="118" y="102"/>
                  </a:lnTo>
                  <a:lnTo>
                    <a:pt x="116" y="101"/>
                  </a:lnTo>
                  <a:lnTo>
                    <a:pt x="115" y="99"/>
                  </a:lnTo>
                  <a:lnTo>
                    <a:pt x="112" y="99"/>
                  </a:lnTo>
                  <a:lnTo>
                    <a:pt x="111" y="97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2"/>
                  </a:lnTo>
                  <a:lnTo>
                    <a:pt x="97" y="90"/>
                  </a:lnTo>
                  <a:lnTo>
                    <a:pt x="95" y="90"/>
                  </a:lnTo>
                  <a:lnTo>
                    <a:pt x="93" y="89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4"/>
                  </a:lnTo>
                  <a:lnTo>
                    <a:pt x="83" y="83"/>
                  </a:lnTo>
                  <a:lnTo>
                    <a:pt x="82" y="80"/>
                  </a:lnTo>
                  <a:lnTo>
                    <a:pt x="80" y="80"/>
                  </a:lnTo>
                  <a:lnTo>
                    <a:pt x="80" y="78"/>
                  </a:lnTo>
                  <a:lnTo>
                    <a:pt x="78" y="78"/>
                  </a:lnTo>
                  <a:lnTo>
                    <a:pt x="76" y="76"/>
                  </a:lnTo>
                  <a:lnTo>
                    <a:pt x="74" y="76"/>
                  </a:lnTo>
                  <a:lnTo>
                    <a:pt x="73" y="73"/>
                  </a:lnTo>
                  <a:lnTo>
                    <a:pt x="71" y="73"/>
                  </a:lnTo>
                  <a:lnTo>
                    <a:pt x="70" y="71"/>
                  </a:lnTo>
                  <a:lnTo>
                    <a:pt x="67" y="71"/>
                  </a:lnTo>
                  <a:lnTo>
                    <a:pt x="66" y="69"/>
                  </a:lnTo>
                  <a:lnTo>
                    <a:pt x="64" y="68"/>
                  </a:lnTo>
                  <a:lnTo>
                    <a:pt x="61" y="67"/>
                  </a:lnTo>
                  <a:lnTo>
                    <a:pt x="60" y="64"/>
                  </a:lnTo>
                  <a:lnTo>
                    <a:pt x="59" y="62"/>
                  </a:lnTo>
                  <a:lnTo>
                    <a:pt x="57" y="61"/>
                  </a:lnTo>
                  <a:lnTo>
                    <a:pt x="56" y="58"/>
                  </a:lnTo>
                  <a:lnTo>
                    <a:pt x="53" y="57"/>
                  </a:lnTo>
                  <a:lnTo>
                    <a:pt x="51" y="57"/>
                  </a:lnTo>
                  <a:lnTo>
                    <a:pt x="50" y="55"/>
                  </a:lnTo>
                  <a:lnTo>
                    <a:pt x="48" y="54"/>
                  </a:lnTo>
                  <a:lnTo>
                    <a:pt x="48" y="52"/>
                  </a:lnTo>
                  <a:lnTo>
                    <a:pt x="45" y="50"/>
                  </a:lnTo>
                  <a:lnTo>
                    <a:pt x="45" y="48"/>
                  </a:lnTo>
                  <a:lnTo>
                    <a:pt x="43" y="47"/>
                  </a:lnTo>
                  <a:lnTo>
                    <a:pt x="42" y="45"/>
                  </a:lnTo>
                  <a:lnTo>
                    <a:pt x="39" y="45"/>
                  </a:lnTo>
                  <a:lnTo>
                    <a:pt x="38" y="42"/>
                  </a:lnTo>
                  <a:lnTo>
                    <a:pt x="36" y="41"/>
                  </a:lnTo>
                  <a:lnTo>
                    <a:pt x="35" y="39"/>
                  </a:lnTo>
                  <a:lnTo>
                    <a:pt x="33" y="38"/>
                  </a:lnTo>
                  <a:lnTo>
                    <a:pt x="31" y="35"/>
                  </a:lnTo>
                  <a:lnTo>
                    <a:pt x="29" y="34"/>
                  </a:lnTo>
                  <a:lnTo>
                    <a:pt x="28" y="32"/>
                  </a:lnTo>
                  <a:lnTo>
                    <a:pt x="26" y="31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6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18" y="20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2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7" y="8"/>
                  </a:lnTo>
                  <a:lnTo>
                    <a:pt x="5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>
              <a:off x="6757920" y="3811320"/>
              <a:ext cx="389520" cy="80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602480" y="3808440"/>
            <a:ext cx="828360" cy="1115280"/>
            <a:chOff x="7602480" y="3808440"/>
            <a:chExt cx="828360" cy="1115280"/>
          </a:xfrm>
        </p:grpSpPr>
        <p:sp>
          <p:nvSpPr>
            <p:cNvPr id="601" name=""/>
            <p:cNvSpPr/>
            <p:nvPr/>
          </p:nvSpPr>
          <p:spPr>
            <a:xfrm>
              <a:off x="7602480" y="4593960"/>
              <a:ext cx="449280" cy="329760"/>
            </a:xfrm>
            <a:custGeom>
              <a:avLst/>
              <a:gdLst/>
              <a:ahLst/>
              <a:rect l="l" t="t" r="r" b="b"/>
              <a:pathLst>
                <a:path w="256" h="136">
                  <a:moveTo>
                    <a:pt x="8" y="136"/>
                  </a:moveTo>
                  <a:lnTo>
                    <a:pt x="0" y="136"/>
                  </a:lnTo>
                  <a:lnTo>
                    <a:pt x="2" y="136"/>
                  </a:lnTo>
                  <a:lnTo>
                    <a:pt x="4" y="136"/>
                  </a:lnTo>
                  <a:lnTo>
                    <a:pt x="7" y="134"/>
                  </a:lnTo>
                  <a:lnTo>
                    <a:pt x="9" y="134"/>
                  </a:lnTo>
                  <a:lnTo>
                    <a:pt x="11" y="134"/>
                  </a:lnTo>
                  <a:lnTo>
                    <a:pt x="14" y="133"/>
                  </a:lnTo>
                  <a:lnTo>
                    <a:pt x="16" y="133"/>
                  </a:lnTo>
                  <a:lnTo>
                    <a:pt x="18" y="133"/>
                  </a:lnTo>
                  <a:lnTo>
                    <a:pt x="21" y="133"/>
                  </a:lnTo>
                  <a:lnTo>
                    <a:pt x="23" y="133"/>
                  </a:lnTo>
                  <a:lnTo>
                    <a:pt x="25" y="133"/>
                  </a:lnTo>
                  <a:lnTo>
                    <a:pt x="27" y="133"/>
                  </a:lnTo>
                  <a:lnTo>
                    <a:pt x="30" y="133"/>
                  </a:lnTo>
                  <a:lnTo>
                    <a:pt x="32" y="133"/>
                  </a:lnTo>
                  <a:lnTo>
                    <a:pt x="34" y="133"/>
                  </a:lnTo>
                  <a:lnTo>
                    <a:pt x="37" y="132"/>
                  </a:lnTo>
                  <a:lnTo>
                    <a:pt x="39" y="131"/>
                  </a:lnTo>
                  <a:lnTo>
                    <a:pt x="41" y="131"/>
                  </a:lnTo>
                  <a:lnTo>
                    <a:pt x="44" y="131"/>
                  </a:lnTo>
                  <a:lnTo>
                    <a:pt x="46" y="131"/>
                  </a:lnTo>
                  <a:lnTo>
                    <a:pt x="48" y="131"/>
                  </a:lnTo>
                  <a:lnTo>
                    <a:pt x="51" y="131"/>
                  </a:lnTo>
                  <a:lnTo>
                    <a:pt x="53" y="130"/>
                  </a:lnTo>
                  <a:lnTo>
                    <a:pt x="55" y="130"/>
                  </a:lnTo>
                  <a:lnTo>
                    <a:pt x="58" y="130"/>
                  </a:lnTo>
                  <a:lnTo>
                    <a:pt x="60" y="130"/>
                  </a:lnTo>
                  <a:lnTo>
                    <a:pt x="62" y="130"/>
                  </a:lnTo>
                  <a:lnTo>
                    <a:pt x="64" y="129"/>
                  </a:lnTo>
                  <a:lnTo>
                    <a:pt x="67" y="129"/>
                  </a:lnTo>
                  <a:lnTo>
                    <a:pt x="69" y="127"/>
                  </a:lnTo>
                  <a:lnTo>
                    <a:pt x="71" y="127"/>
                  </a:lnTo>
                  <a:lnTo>
                    <a:pt x="74" y="126"/>
                  </a:lnTo>
                  <a:lnTo>
                    <a:pt x="76" y="126"/>
                  </a:lnTo>
                  <a:lnTo>
                    <a:pt x="78" y="125"/>
                  </a:lnTo>
                  <a:lnTo>
                    <a:pt x="81" y="124"/>
                  </a:lnTo>
                  <a:lnTo>
                    <a:pt x="83" y="124"/>
                  </a:lnTo>
                  <a:lnTo>
                    <a:pt x="85" y="123"/>
                  </a:lnTo>
                  <a:lnTo>
                    <a:pt x="88" y="123"/>
                  </a:lnTo>
                  <a:lnTo>
                    <a:pt x="90" y="123"/>
                  </a:lnTo>
                  <a:lnTo>
                    <a:pt x="92" y="123"/>
                  </a:lnTo>
                  <a:lnTo>
                    <a:pt x="94" y="121"/>
                  </a:lnTo>
                  <a:lnTo>
                    <a:pt x="97" y="121"/>
                  </a:lnTo>
                  <a:lnTo>
                    <a:pt x="99" y="119"/>
                  </a:lnTo>
                  <a:lnTo>
                    <a:pt x="101" y="118"/>
                  </a:lnTo>
                  <a:lnTo>
                    <a:pt x="104" y="118"/>
                  </a:lnTo>
                  <a:lnTo>
                    <a:pt x="106" y="117"/>
                  </a:lnTo>
                  <a:lnTo>
                    <a:pt x="108" y="117"/>
                  </a:lnTo>
                  <a:lnTo>
                    <a:pt x="111" y="116"/>
                  </a:lnTo>
                  <a:lnTo>
                    <a:pt x="113" y="115"/>
                  </a:lnTo>
                  <a:lnTo>
                    <a:pt x="115" y="114"/>
                  </a:lnTo>
                  <a:lnTo>
                    <a:pt x="118" y="114"/>
                  </a:lnTo>
                  <a:lnTo>
                    <a:pt x="119" y="111"/>
                  </a:lnTo>
                  <a:lnTo>
                    <a:pt x="121" y="111"/>
                  </a:lnTo>
                  <a:lnTo>
                    <a:pt x="123" y="110"/>
                  </a:lnTo>
                  <a:lnTo>
                    <a:pt x="126" y="110"/>
                  </a:lnTo>
                  <a:lnTo>
                    <a:pt x="128" y="109"/>
                  </a:lnTo>
                  <a:lnTo>
                    <a:pt x="130" y="108"/>
                  </a:lnTo>
                  <a:lnTo>
                    <a:pt x="133" y="107"/>
                  </a:lnTo>
                  <a:lnTo>
                    <a:pt x="135" y="106"/>
                  </a:lnTo>
                  <a:lnTo>
                    <a:pt x="136" y="103"/>
                  </a:lnTo>
                  <a:lnTo>
                    <a:pt x="138" y="103"/>
                  </a:lnTo>
                  <a:lnTo>
                    <a:pt x="141" y="102"/>
                  </a:lnTo>
                  <a:lnTo>
                    <a:pt x="142" y="100"/>
                  </a:lnTo>
                  <a:lnTo>
                    <a:pt x="144" y="100"/>
                  </a:lnTo>
                  <a:lnTo>
                    <a:pt x="145" y="97"/>
                  </a:lnTo>
                  <a:lnTo>
                    <a:pt x="148" y="96"/>
                  </a:lnTo>
                  <a:lnTo>
                    <a:pt x="150" y="96"/>
                  </a:lnTo>
                  <a:lnTo>
                    <a:pt x="152" y="95"/>
                  </a:lnTo>
                  <a:lnTo>
                    <a:pt x="155" y="94"/>
                  </a:lnTo>
                  <a:lnTo>
                    <a:pt x="157" y="93"/>
                  </a:lnTo>
                  <a:lnTo>
                    <a:pt x="159" y="93"/>
                  </a:lnTo>
                  <a:lnTo>
                    <a:pt x="159" y="91"/>
                  </a:lnTo>
                  <a:lnTo>
                    <a:pt x="161" y="91"/>
                  </a:lnTo>
                  <a:lnTo>
                    <a:pt x="164" y="89"/>
                  </a:lnTo>
                  <a:lnTo>
                    <a:pt x="166" y="87"/>
                  </a:lnTo>
                  <a:lnTo>
                    <a:pt x="168" y="86"/>
                  </a:lnTo>
                  <a:lnTo>
                    <a:pt x="171" y="85"/>
                  </a:lnTo>
                  <a:lnTo>
                    <a:pt x="173" y="84"/>
                  </a:lnTo>
                  <a:lnTo>
                    <a:pt x="174" y="81"/>
                  </a:lnTo>
                  <a:lnTo>
                    <a:pt x="176" y="81"/>
                  </a:lnTo>
                  <a:lnTo>
                    <a:pt x="176" y="79"/>
                  </a:lnTo>
                  <a:lnTo>
                    <a:pt x="179" y="79"/>
                  </a:lnTo>
                  <a:lnTo>
                    <a:pt x="180" y="77"/>
                  </a:lnTo>
                  <a:lnTo>
                    <a:pt x="182" y="77"/>
                  </a:lnTo>
                  <a:lnTo>
                    <a:pt x="183" y="74"/>
                  </a:lnTo>
                  <a:lnTo>
                    <a:pt x="186" y="74"/>
                  </a:lnTo>
                  <a:lnTo>
                    <a:pt x="187" y="72"/>
                  </a:lnTo>
                  <a:lnTo>
                    <a:pt x="189" y="72"/>
                  </a:lnTo>
                  <a:lnTo>
                    <a:pt x="190" y="70"/>
                  </a:lnTo>
                  <a:lnTo>
                    <a:pt x="193" y="69"/>
                  </a:lnTo>
                  <a:lnTo>
                    <a:pt x="195" y="67"/>
                  </a:lnTo>
                  <a:lnTo>
                    <a:pt x="196" y="65"/>
                  </a:lnTo>
                  <a:lnTo>
                    <a:pt x="197" y="63"/>
                  </a:lnTo>
                  <a:lnTo>
                    <a:pt x="200" y="62"/>
                  </a:lnTo>
                  <a:lnTo>
                    <a:pt x="201" y="59"/>
                  </a:lnTo>
                  <a:lnTo>
                    <a:pt x="203" y="58"/>
                  </a:lnTo>
                  <a:lnTo>
                    <a:pt x="205" y="58"/>
                  </a:lnTo>
                  <a:lnTo>
                    <a:pt x="207" y="56"/>
                  </a:lnTo>
                  <a:lnTo>
                    <a:pt x="209" y="55"/>
                  </a:lnTo>
                  <a:lnTo>
                    <a:pt x="209" y="52"/>
                  </a:lnTo>
                  <a:lnTo>
                    <a:pt x="211" y="51"/>
                  </a:lnTo>
                  <a:lnTo>
                    <a:pt x="211" y="49"/>
                  </a:lnTo>
                  <a:lnTo>
                    <a:pt x="213" y="48"/>
                  </a:lnTo>
                  <a:lnTo>
                    <a:pt x="215" y="45"/>
                  </a:lnTo>
                  <a:lnTo>
                    <a:pt x="217" y="45"/>
                  </a:lnTo>
                  <a:lnTo>
                    <a:pt x="218" y="43"/>
                  </a:lnTo>
                  <a:lnTo>
                    <a:pt x="220" y="42"/>
                  </a:lnTo>
                  <a:lnTo>
                    <a:pt x="222" y="40"/>
                  </a:lnTo>
                  <a:lnTo>
                    <a:pt x="224" y="39"/>
                  </a:lnTo>
                  <a:lnTo>
                    <a:pt x="225" y="36"/>
                  </a:lnTo>
                  <a:lnTo>
                    <a:pt x="227" y="35"/>
                  </a:lnTo>
                  <a:lnTo>
                    <a:pt x="228" y="33"/>
                  </a:lnTo>
                  <a:lnTo>
                    <a:pt x="231" y="32"/>
                  </a:lnTo>
                  <a:lnTo>
                    <a:pt x="231" y="29"/>
                  </a:lnTo>
                  <a:lnTo>
                    <a:pt x="232" y="27"/>
                  </a:lnTo>
                  <a:lnTo>
                    <a:pt x="234" y="27"/>
                  </a:lnTo>
                  <a:lnTo>
                    <a:pt x="235" y="25"/>
                  </a:lnTo>
                  <a:lnTo>
                    <a:pt x="238" y="24"/>
                  </a:lnTo>
                  <a:lnTo>
                    <a:pt x="239" y="21"/>
                  </a:lnTo>
                  <a:lnTo>
                    <a:pt x="241" y="20"/>
                  </a:lnTo>
                  <a:lnTo>
                    <a:pt x="242" y="18"/>
                  </a:lnTo>
                  <a:lnTo>
                    <a:pt x="242" y="15"/>
                  </a:lnTo>
                  <a:lnTo>
                    <a:pt x="245" y="14"/>
                  </a:lnTo>
                  <a:lnTo>
                    <a:pt x="246" y="12"/>
                  </a:lnTo>
                  <a:lnTo>
                    <a:pt x="248" y="11"/>
                  </a:lnTo>
                  <a:lnTo>
                    <a:pt x="249" y="8"/>
                  </a:lnTo>
                  <a:lnTo>
                    <a:pt x="252" y="6"/>
                  </a:lnTo>
                  <a:lnTo>
                    <a:pt x="254" y="5"/>
                  </a:lnTo>
                  <a:lnTo>
                    <a:pt x="254" y="3"/>
                  </a:lnTo>
                  <a:lnTo>
                    <a:pt x="256" y="3"/>
                  </a:lnTo>
                  <a:lnTo>
                    <a:pt x="25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8041320" y="3808440"/>
              <a:ext cx="389520" cy="804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4324320" y="3849840"/>
            <a:ext cx="44578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174720" y="1747800"/>
            <a:ext cx="458280" cy="446040"/>
            <a:chOff x="6174720" y="1747800"/>
            <a:chExt cx="458280" cy="446040"/>
          </a:xfrm>
        </p:grpSpPr>
        <p:sp>
          <p:nvSpPr>
            <p:cNvPr id="605" name=""/>
            <p:cNvSpPr/>
            <p:nvPr/>
          </p:nvSpPr>
          <p:spPr>
            <a:xfrm>
              <a:off x="6174720" y="17478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92440" y="1873440"/>
              <a:ext cx="340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 flipH="1">
            <a:off x="1860120" y="3656160"/>
            <a:ext cx="79560" cy="372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332000" y="3863880"/>
            <a:ext cx="7365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74880" y="3843360"/>
            <a:ext cx="39600" cy="47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23960" y="3397320"/>
            <a:ext cx="20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031840" y="3863880"/>
            <a:ext cx="4287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85240" y="367812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q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571120" y="358308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q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87800" y="4033800"/>
            <a:ext cx="3735360" cy="32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52960" y="3849840"/>
            <a:ext cx="1800" cy="210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64480" y="3852720"/>
            <a:ext cx="1440" cy="210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064120" y="5581800"/>
            <a:ext cx="180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979960" y="1862280"/>
            <a:ext cx="3240" cy="336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5054760" y="5447880"/>
            <a:ext cx="196200" cy="266760"/>
            <a:chOff x="5054760" y="5447880"/>
            <a:chExt cx="196200" cy="266760"/>
          </a:xfrm>
        </p:grpSpPr>
        <p:sp>
          <p:nvSpPr>
            <p:cNvPr id="620" name=""/>
            <p:cNvSpPr/>
            <p:nvPr/>
          </p:nvSpPr>
          <p:spPr>
            <a:xfrm flipV="1">
              <a:off x="5056560" y="5447880"/>
              <a:ext cx="19440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054760" y="5581800"/>
              <a:ext cx="194760" cy="13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6670440" y="5450040"/>
            <a:ext cx="196560" cy="269280"/>
            <a:chOff x="6670440" y="5450040"/>
            <a:chExt cx="196560" cy="269280"/>
          </a:xfrm>
        </p:grpSpPr>
        <p:sp>
          <p:nvSpPr>
            <p:cNvPr id="623" name=""/>
            <p:cNvSpPr/>
            <p:nvPr/>
          </p:nvSpPr>
          <p:spPr>
            <a:xfrm flipH="1" flipV="1">
              <a:off x="6670440" y="5450040"/>
              <a:ext cx="1926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6672600" y="5583240"/>
              <a:ext cx="194400" cy="13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5987880" y="57070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743440" y="5724360"/>
            <a:ext cx="1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36800" y="57070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58960" y="569268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207840" y="5718240"/>
            <a:ext cx="28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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1325520" y="1499760"/>
            <a:ext cx="0" cy="2560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325520" y="4060800"/>
            <a:ext cx="1854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28600" y="3711600"/>
            <a:ext cx="21924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421000" y="3711600"/>
            <a:ext cx="0" cy="24447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0680" y="1703520"/>
            <a:ext cx="8526240" cy="418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mocy jest układem elektronicznym, który dostarcza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ciążenia wymaganej mocy wyjściowej przy możliwie duż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awności i małych zniekształceniach sygna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gadnieniem podstawowym jest uzyskanie dużej spraw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żnym problemem jest chłodzenie elementó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ż układ na ogół wydziela duże ilości ciepł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Clipboard01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544212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3492360" y="3402000"/>
            <a:ext cx="723960" cy="58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Clipboard01" descr=""/>
          <p:cNvPicPr/>
          <p:nvPr/>
        </p:nvPicPr>
        <p:blipFill>
          <a:blip r:embed="rId1"/>
          <a:stretch/>
        </p:blipFill>
        <p:spPr>
          <a:xfrm>
            <a:off x="0" y="1162080"/>
            <a:ext cx="9144000" cy="544176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3732120" y="2209680"/>
            <a:ext cx="0" cy="97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3735360" y="3793680"/>
            <a:ext cx="0" cy="97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708360" y="2119320"/>
            <a:ext cx="936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Times New Roman"/>
              </a:rPr>
              <a:t>sp n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25720" y="4626000"/>
            <a:ext cx="936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Times New Roman"/>
              </a:rPr>
              <a:t>sp p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733920" y="2000160"/>
            <a:ext cx="0" cy="318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38080" y="3476520"/>
            <a:ext cx="8182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761760" y="3162240"/>
            <a:ext cx="2981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714240" y="3809880"/>
            <a:ext cx="2981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1940040" y="4179960"/>
            <a:ext cx="1923840" cy="1622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762120" y="1066680"/>
          <a:ext cx="7669080" cy="43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66908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atorowy wzmacniacz mocy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65520" y="5851440"/>
            <a:ext cx="293472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5257800" y="2433600"/>
            <a:ext cx="669960" cy="2311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066680" y="2998800"/>
            <a:ext cx="503280" cy="11811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304920" y="1905120"/>
          <a:ext cx="8091360" cy="33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05120"/>
                    <a:ext cx="809136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e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3087720" y="2346480"/>
            <a:ext cx="1517760" cy="19573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2286000" y="1371600"/>
          <a:ext cx="434340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371600"/>
                    <a:ext cx="434340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e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5530680" y="3780000"/>
            <a:ext cx="2760840" cy="1811160"/>
          </a:xfrm>
          <a:custGeom>
            <a:avLst/>
            <a:gdLst/>
            <a:ahLst/>
            <a:rect l="l" t="t" r="r" b="b"/>
            <a:pathLst>
              <a:path w="1739" h="1141">
                <a:moveTo>
                  <a:pt x="1572" y="63"/>
                </a:moveTo>
                <a:cubicBezTo>
                  <a:pt x="1459" y="43"/>
                  <a:pt x="1144" y="0"/>
                  <a:pt x="1039" y="30"/>
                </a:cubicBezTo>
                <a:cubicBezTo>
                  <a:pt x="934" y="60"/>
                  <a:pt x="996" y="174"/>
                  <a:pt x="939" y="241"/>
                </a:cubicBezTo>
                <a:cubicBezTo>
                  <a:pt x="882" y="308"/>
                  <a:pt x="761" y="419"/>
                  <a:pt x="694" y="430"/>
                </a:cubicBezTo>
                <a:cubicBezTo>
                  <a:pt x="627" y="441"/>
                  <a:pt x="594" y="341"/>
                  <a:pt x="539" y="308"/>
                </a:cubicBezTo>
                <a:cubicBezTo>
                  <a:pt x="484" y="275"/>
                  <a:pt x="442" y="225"/>
                  <a:pt x="361" y="230"/>
                </a:cubicBezTo>
                <a:cubicBezTo>
                  <a:pt x="280" y="235"/>
                  <a:pt x="100" y="274"/>
                  <a:pt x="50" y="341"/>
                </a:cubicBezTo>
                <a:cubicBezTo>
                  <a:pt x="0" y="408"/>
                  <a:pt x="42" y="530"/>
                  <a:pt x="61" y="630"/>
                </a:cubicBezTo>
                <a:cubicBezTo>
                  <a:pt x="80" y="730"/>
                  <a:pt x="96" y="859"/>
                  <a:pt x="161" y="941"/>
                </a:cubicBezTo>
                <a:cubicBezTo>
                  <a:pt x="226" y="1023"/>
                  <a:pt x="343" y="1097"/>
                  <a:pt x="450" y="1119"/>
                </a:cubicBezTo>
                <a:cubicBezTo>
                  <a:pt x="557" y="1141"/>
                  <a:pt x="664" y="1113"/>
                  <a:pt x="805" y="1074"/>
                </a:cubicBezTo>
                <a:cubicBezTo>
                  <a:pt x="946" y="1035"/>
                  <a:pt x="1183" y="948"/>
                  <a:pt x="1294" y="885"/>
                </a:cubicBezTo>
                <a:cubicBezTo>
                  <a:pt x="1405" y="822"/>
                  <a:pt x="1409" y="765"/>
                  <a:pt x="1472" y="697"/>
                </a:cubicBezTo>
                <a:cubicBezTo>
                  <a:pt x="1535" y="629"/>
                  <a:pt x="1631" y="546"/>
                  <a:pt x="1672" y="474"/>
                </a:cubicBezTo>
                <a:cubicBezTo>
                  <a:pt x="1713" y="402"/>
                  <a:pt x="1710" y="317"/>
                  <a:pt x="1717" y="263"/>
                </a:cubicBezTo>
                <a:cubicBezTo>
                  <a:pt x="1724" y="209"/>
                  <a:pt x="1739" y="182"/>
                  <a:pt x="1717" y="152"/>
                </a:cubicBezTo>
                <a:cubicBezTo>
                  <a:pt x="1695" y="122"/>
                  <a:pt x="1685" y="83"/>
                  <a:pt x="1572" y="63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641920" y="844560"/>
            <a:ext cx="2390760" cy="2009880"/>
          </a:xfrm>
          <a:custGeom>
            <a:avLst/>
            <a:gdLst/>
            <a:ahLst/>
            <a:rect l="l" t="t" r="r" b="b"/>
            <a:pathLst>
              <a:path w="1506" h="1266">
                <a:moveTo>
                  <a:pt x="46" y="35"/>
                </a:moveTo>
                <a:cubicBezTo>
                  <a:pt x="57" y="0"/>
                  <a:pt x="0" y="15"/>
                  <a:pt x="135" y="24"/>
                </a:cubicBezTo>
                <a:cubicBezTo>
                  <a:pt x="270" y="33"/>
                  <a:pt x="669" y="16"/>
                  <a:pt x="858" y="90"/>
                </a:cubicBezTo>
                <a:cubicBezTo>
                  <a:pt x="1047" y="164"/>
                  <a:pt x="1162" y="318"/>
                  <a:pt x="1269" y="468"/>
                </a:cubicBezTo>
                <a:cubicBezTo>
                  <a:pt x="1376" y="618"/>
                  <a:pt x="1498" y="862"/>
                  <a:pt x="1502" y="990"/>
                </a:cubicBezTo>
                <a:cubicBezTo>
                  <a:pt x="1506" y="1118"/>
                  <a:pt x="1387" y="1204"/>
                  <a:pt x="1291" y="1235"/>
                </a:cubicBezTo>
                <a:cubicBezTo>
                  <a:pt x="1195" y="1266"/>
                  <a:pt x="1000" y="1249"/>
                  <a:pt x="924" y="1179"/>
                </a:cubicBezTo>
                <a:cubicBezTo>
                  <a:pt x="848" y="1109"/>
                  <a:pt x="909" y="877"/>
                  <a:pt x="835" y="812"/>
                </a:cubicBezTo>
                <a:cubicBezTo>
                  <a:pt x="761" y="747"/>
                  <a:pt x="595" y="775"/>
                  <a:pt x="480" y="790"/>
                </a:cubicBezTo>
                <a:cubicBezTo>
                  <a:pt x="365" y="805"/>
                  <a:pt x="220" y="942"/>
                  <a:pt x="146" y="901"/>
                </a:cubicBezTo>
                <a:cubicBezTo>
                  <a:pt x="72" y="860"/>
                  <a:pt x="48" y="657"/>
                  <a:pt x="35" y="546"/>
                </a:cubicBezTo>
                <a:cubicBezTo>
                  <a:pt x="22" y="435"/>
                  <a:pt x="67" y="318"/>
                  <a:pt x="69" y="235"/>
                </a:cubicBezTo>
                <a:cubicBezTo>
                  <a:pt x="71" y="152"/>
                  <a:pt x="35" y="70"/>
                  <a:pt x="46" y="3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066680" y="652320"/>
            <a:ext cx="1755720" cy="2187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446120" y="3686040"/>
            <a:ext cx="1287720" cy="2046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609480" y="1066680"/>
          <a:ext cx="786312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78631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7" name=""/>
          <p:cNvSpPr/>
          <p:nvPr/>
        </p:nvSpPr>
        <p:spPr>
          <a:xfrm>
            <a:off x="336960" y="5757840"/>
            <a:ext cx="84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atyczne źródła prądowe             i        dynamiczne źródła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zw. bootst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e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7215120" y="2909880"/>
            <a:ext cx="1341360" cy="1428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457200" y="1828800"/>
          <a:ext cx="812016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12016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silanie symetryczne i asymetrycz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4191120" y="2438280"/>
            <a:ext cx="1218960" cy="19814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2133720" y="1066680"/>
          <a:ext cx="433836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33836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bezpieczenia wzmacniaczy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90600" y="2133720"/>
            <a:ext cx="2460600" cy="4597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ranicznik prą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8" name=""/>
          <p:cNvGraphicFramePr/>
          <p:nvPr/>
        </p:nvGraphicFramePr>
        <p:xfrm>
          <a:off x="1219320" y="2514600"/>
          <a:ext cx="6683400" cy="36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668340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nie końcowe wzmacniaczy scalon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 rot="20718000">
            <a:off x="2286000" y="1828440"/>
            <a:ext cx="281952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zężenie zwrotne we wzmacniaczu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883040" y="4282920"/>
            <a:ext cx="7574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299120" y="2330280"/>
            <a:ext cx="53172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4808160" y="2419200"/>
            <a:ext cx="57780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3696840" y="2419200"/>
            <a:ext cx="608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355280" y="175248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294080" y="2925720"/>
            <a:ext cx="5040" cy="696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305240" y="2919240"/>
            <a:ext cx="696960" cy="3495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370400" y="3379680"/>
            <a:ext cx="1440" cy="889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322880" y="3421080"/>
            <a:ext cx="112680" cy="6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092480" y="3138480"/>
            <a:ext cx="206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92480" y="3444840"/>
            <a:ext cx="206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997520" y="3262320"/>
            <a:ext cx="1027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081320" y="3444840"/>
            <a:ext cx="50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081320" y="2925720"/>
            <a:ext cx="504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322880" y="3149640"/>
            <a:ext cx="1126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4311720" y="3262320"/>
            <a:ext cx="696960" cy="342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60840" y="2890800"/>
            <a:ext cx="7776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68760" y="2825640"/>
            <a:ext cx="52704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271680" y="2919240"/>
            <a:ext cx="80352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2514240" y="2919240"/>
            <a:ext cx="2602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3697200" y="2413080"/>
            <a:ext cx="1800" cy="51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392800" y="2412720"/>
            <a:ext cx="6120" cy="849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351400" y="3220920"/>
            <a:ext cx="76320" cy="763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959440" y="3220920"/>
            <a:ext cx="8424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946240" y="3692160"/>
            <a:ext cx="123840" cy="347400"/>
            <a:chOff x="2946240" y="3692160"/>
            <a:chExt cx="123840" cy="347400"/>
          </a:xfrm>
        </p:grpSpPr>
        <p:sp>
          <p:nvSpPr>
            <p:cNvPr id="708" name=""/>
            <p:cNvSpPr/>
            <p:nvPr/>
          </p:nvSpPr>
          <p:spPr>
            <a:xfrm flipV="1">
              <a:off x="3004920" y="3692160"/>
              <a:ext cx="1800" cy="347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946240" y="369252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78" y="78"/>
                  </a:moveTo>
                  <a:lnTo>
                    <a:pt x="37" y="0"/>
                  </a:lnTo>
                  <a:lnTo>
                    <a:pt x="0" y="7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2568600" y="3710160"/>
            <a:ext cx="360360" cy="360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31880" y="3657600"/>
            <a:ext cx="4654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32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544840" y="295596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996160" y="377028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959440" y="3740040"/>
            <a:ext cx="84240" cy="716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070080" y="3616200"/>
            <a:ext cx="7632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503440" y="2890800"/>
            <a:ext cx="8244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38280" y="3168720"/>
            <a:ext cx="2415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896080" y="3976560"/>
            <a:ext cx="241200" cy="5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3135240" y="3646440"/>
            <a:ext cx="9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105000" y="4040280"/>
            <a:ext cx="180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70080" y="4017960"/>
            <a:ext cx="8280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005280" y="4253040"/>
            <a:ext cx="2426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831040" y="205740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3429000" y="4648320"/>
                <a:ext cx="16765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5" name=""/>
          <p:cNvSpPr/>
          <p:nvPr/>
        </p:nvSpPr>
        <p:spPr>
          <a:xfrm>
            <a:off x="2281320" y="5638680"/>
            <a:ext cx="4714560" cy="825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ie same problemy ze stabilności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 we wzmacniaczach operacyj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353240" y="1184400"/>
            <a:ext cx="2157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6019920" y="335232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104520" y="32418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uszczalne warunki pracy elementów wzmacniając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925560" y="1353960"/>
          <a:ext cx="7005600" cy="46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5560" y="1353960"/>
                    <a:ext cx="700560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010960" y="4073400"/>
            <a:ext cx="1729080" cy="4597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zar S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 rot="20718000">
            <a:off x="2286000" y="1828440"/>
            <a:ext cx="281952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353240" y="1184400"/>
            <a:ext cx="2157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zężenie zwrotne we wzmacniaczu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299120" y="2330280"/>
            <a:ext cx="53172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4808160" y="2419200"/>
            <a:ext cx="57780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3696840" y="2419200"/>
            <a:ext cx="608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355280" y="175248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294080" y="2925720"/>
            <a:ext cx="5040" cy="696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305240" y="2919240"/>
            <a:ext cx="696960" cy="3495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370400" y="3379680"/>
            <a:ext cx="1440" cy="889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322880" y="3421080"/>
            <a:ext cx="112680" cy="6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092480" y="3138480"/>
            <a:ext cx="206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092480" y="3444840"/>
            <a:ext cx="206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997520" y="3262320"/>
            <a:ext cx="1027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081320" y="3444840"/>
            <a:ext cx="50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081320" y="2925720"/>
            <a:ext cx="504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322880" y="3149640"/>
            <a:ext cx="1126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4311720" y="3262320"/>
            <a:ext cx="696960" cy="342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660840" y="2890800"/>
            <a:ext cx="7776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768760" y="2825640"/>
            <a:ext cx="52704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3271680" y="2919240"/>
            <a:ext cx="80352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2514240" y="2919240"/>
            <a:ext cx="2602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3697200" y="2413080"/>
            <a:ext cx="1800" cy="51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51400" y="3220920"/>
            <a:ext cx="76320" cy="763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959440" y="3220920"/>
            <a:ext cx="8424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568600" y="3710160"/>
            <a:ext cx="360360" cy="360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544840" y="295596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96160" y="377028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959440" y="3740040"/>
            <a:ext cx="84240" cy="716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070080" y="3616200"/>
            <a:ext cx="7632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03440" y="2890800"/>
            <a:ext cx="8244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438280" y="3168720"/>
            <a:ext cx="2415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896080" y="3976560"/>
            <a:ext cx="241200" cy="5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3135240" y="3646440"/>
            <a:ext cx="9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05000" y="4040280"/>
            <a:ext cx="180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070080" y="4017960"/>
            <a:ext cx="8280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005280" y="4253040"/>
            <a:ext cx="2426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831040" y="205740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06800" y="3705120"/>
            <a:ext cx="0" cy="333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5105160" y="2590920"/>
            <a:ext cx="5713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742360" y="231768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6019920" y="335232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104520" y="32418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3657600" y="4295880"/>
                <a:ext cx="16765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3" name=""/>
          <p:cNvSpPr/>
          <p:nvPr/>
        </p:nvSpPr>
        <p:spPr>
          <a:xfrm>
            <a:off x="1370160" y="1477800"/>
            <a:ext cx="4601880" cy="2918160"/>
          </a:xfrm>
          <a:custGeom>
            <a:avLst/>
            <a:gdLst/>
            <a:ahLst/>
            <a:rect l="l" t="t" r="r" b="b"/>
            <a:pathLst>
              <a:path w="2899" h="1838">
                <a:moveTo>
                  <a:pt x="2826" y="69"/>
                </a:moveTo>
                <a:cubicBezTo>
                  <a:pt x="2533" y="34"/>
                  <a:pt x="2241" y="0"/>
                  <a:pt x="1893" y="24"/>
                </a:cubicBezTo>
                <a:cubicBezTo>
                  <a:pt x="1545" y="48"/>
                  <a:pt x="1037" y="94"/>
                  <a:pt x="737" y="213"/>
                </a:cubicBezTo>
                <a:cubicBezTo>
                  <a:pt x="437" y="332"/>
                  <a:pt x="186" y="545"/>
                  <a:pt x="93" y="736"/>
                </a:cubicBezTo>
                <a:cubicBezTo>
                  <a:pt x="0" y="927"/>
                  <a:pt x="12" y="1184"/>
                  <a:pt x="182" y="1358"/>
                </a:cubicBezTo>
                <a:cubicBezTo>
                  <a:pt x="352" y="1532"/>
                  <a:pt x="825" y="1722"/>
                  <a:pt x="1115" y="1780"/>
                </a:cubicBezTo>
                <a:cubicBezTo>
                  <a:pt x="1405" y="1838"/>
                  <a:pt x="1686" y="1750"/>
                  <a:pt x="1921" y="1709"/>
                </a:cubicBezTo>
                <a:cubicBezTo>
                  <a:pt x="2156" y="1668"/>
                  <a:pt x="2407" y="1571"/>
                  <a:pt x="2527" y="1535"/>
                </a:cubicBezTo>
                <a:cubicBezTo>
                  <a:pt x="2647" y="1499"/>
                  <a:pt x="2579" y="1517"/>
                  <a:pt x="2641" y="1493"/>
                </a:cubicBezTo>
                <a:cubicBezTo>
                  <a:pt x="2703" y="1469"/>
                  <a:pt x="2845" y="1412"/>
                  <a:pt x="2899" y="1391"/>
                </a:cubicBezTo>
              </a:path>
            </a:pathLst>
          </a:custGeom>
          <a:noFill/>
          <a:ln w="19080">
            <a:solidFill>
              <a:srgbClr val="33cc33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372280" y="24192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058120" y="9874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4408560" y="2308320"/>
            <a:ext cx="1189080" cy="18270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706920" y="1768320"/>
            <a:ext cx="736560" cy="1920960"/>
          </a:xfrm>
          <a:custGeom>
            <a:avLst/>
            <a:gdLst/>
            <a:ahLst/>
            <a:rect l="l" t="t" r="r" b="b"/>
            <a:pathLst>
              <a:path w="572" h="1324">
                <a:moveTo>
                  <a:pt x="109" y="9"/>
                </a:moveTo>
                <a:cubicBezTo>
                  <a:pt x="163" y="0"/>
                  <a:pt x="277" y="30"/>
                  <a:pt x="342" y="76"/>
                </a:cubicBezTo>
                <a:cubicBezTo>
                  <a:pt x="407" y="122"/>
                  <a:pt x="461" y="220"/>
                  <a:pt x="498" y="287"/>
                </a:cubicBezTo>
                <a:cubicBezTo>
                  <a:pt x="535" y="354"/>
                  <a:pt x="572" y="409"/>
                  <a:pt x="565" y="476"/>
                </a:cubicBezTo>
                <a:cubicBezTo>
                  <a:pt x="558" y="543"/>
                  <a:pt x="478" y="592"/>
                  <a:pt x="454" y="687"/>
                </a:cubicBezTo>
                <a:cubicBezTo>
                  <a:pt x="430" y="782"/>
                  <a:pt x="442" y="950"/>
                  <a:pt x="420" y="1043"/>
                </a:cubicBezTo>
                <a:cubicBezTo>
                  <a:pt x="398" y="1136"/>
                  <a:pt x="379" y="1204"/>
                  <a:pt x="320" y="1243"/>
                </a:cubicBezTo>
                <a:cubicBezTo>
                  <a:pt x="261" y="1282"/>
                  <a:pt x="104" y="1324"/>
                  <a:pt x="65" y="1276"/>
                </a:cubicBezTo>
                <a:cubicBezTo>
                  <a:pt x="26" y="1228"/>
                  <a:pt x="70" y="1041"/>
                  <a:pt x="87" y="954"/>
                </a:cubicBezTo>
                <a:cubicBezTo>
                  <a:pt x="104" y="867"/>
                  <a:pt x="167" y="835"/>
                  <a:pt x="165" y="754"/>
                </a:cubicBezTo>
                <a:cubicBezTo>
                  <a:pt x="163" y="673"/>
                  <a:pt x="102" y="543"/>
                  <a:pt x="76" y="465"/>
                </a:cubicBezTo>
                <a:cubicBezTo>
                  <a:pt x="50" y="387"/>
                  <a:pt x="18" y="342"/>
                  <a:pt x="9" y="287"/>
                </a:cubicBezTo>
                <a:cubicBezTo>
                  <a:pt x="0" y="232"/>
                  <a:pt x="5" y="174"/>
                  <a:pt x="20" y="132"/>
                </a:cubicBezTo>
                <a:cubicBezTo>
                  <a:pt x="35" y="90"/>
                  <a:pt x="55" y="18"/>
                  <a:pt x="109" y="9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rot="20959800">
            <a:off x="2886120" y="2333520"/>
            <a:ext cx="857160" cy="1771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0" y="1698480"/>
          <a:ext cx="8839080" cy="35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98480"/>
                    <a:ext cx="8839080" cy="35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zykładowy wzmacniacz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3352680" y="3581280"/>
            <a:ext cx="1067040" cy="1600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 z tranzystorami 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2" name=""/>
          <p:cNvGraphicFramePr/>
          <p:nvPr/>
        </p:nvGraphicFramePr>
        <p:xfrm>
          <a:off x="762120" y="1143000"/>
          <a:ext cx="7910280" cy="50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791028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ydzielanie ciepła w tranzystorach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3520" y="1752480"/>
          <a:ext cx="8381880" cy="24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38188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elektrotermiczn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zystora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54800" y="21765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587760" y="2521080"/>
            <a:ext cx="798480" cy="145800"/>
            <a:chOff x="3587760" y="2521080"/>
            <a:chExt cx="798480" cy="145800"/>
          </a:xfrm>
        </p:grpSpPr>
        <p:sp>
          <p:nvSpPr>
            <p:cNvPr id="54" name=""/>
            <p:cNvSpPr/>
            <p:nvPr/>
          </p:nvSpPr>
          <p:spPr>
            <a:xfrm>
              <a:off x="3805200" y="2521080"/>
              <a:ext cx="362160" cy="145800"/>
            </a:xfrm>
            <a:prstGeom prst="rect">
              <a:avLst/>
            </a:prstGeom>
            <a:solidFill>
              <a:srgbClr val="ffff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3587760" y="2593800"/>
              <a:ext cx="217440" cy="1800"/>
            </a:xfrm>
            <a:prstGeom prst="line">
              <a:avLst/>
            </a:prstGeom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67360" y="2593800"/>
              <a:ext cx="218880" cy="1800"/>
            </a:xfrm>
            <a:prstGeom prst="line">
              <a:avLst/>
            </a:prstGeom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61880" y="4311720"/>
            <a:ext cx="4210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46640" y="3611520"/>
            <a:ext cx="290520" cy="290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17520" y="3325320"/>
            <a:ext cx="290520" cy="945000"/>
            <a:chOff x="317520" y="3325320"/>
            <a:chExt cx="290520" cy="945000"/>
          </a:xfrm>
        </p:grpSpPr>
        <p:sp>
          <p:nvSpPr>
            <p:cNvPr id="60" name=""/>
            <p:cNvSpPr/>
            <p:nvPr/>
          </p:nvSpPr>
          <p:spPr>
            <a:xfrm>
              <a:off x="317520" y="3543480"/>
              <a:ext cx="290520" cy="2901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7520" y="3689280"/>
              <a:ext cx="290520" cy="29052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61880" y="3325320"/>
              <a:ext cx="1800" cy="21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1880" y="3979800"/>
              <a:ext cx="1800" cy="2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1880" y="3616200"/>
              <a:ext cx="1800" cy="2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90600" y="3616200"/>
              <a:ext cx="7128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1880" y="3616200"/>
              <a:ext cx="7308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 flipV="1">
            <a:off x="461880" y="3294000"/>
            <a:ext cx="180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680" y="3225960"/>
            <a:ext cx="4136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419120" y="3154320"/>
            <a:ext cx="798480" cy="144360"/>
            <a:chOff x="1419120" y="3154320"/>
            <a:chExt cx="798480" cy="144360"/>
          </a:xfrm>
        </p:grpSpPr>
        <p:sp>
          <p:nvSpPr>
            <p:cNvPr id="70" name=""/>
            <p:cNvSpPr/>
            <p:nvPr/>
          </p:nvSpPr>
          <p:spPr>
            <a:xfrm>
              <a:off x="1636560" y="3154320"/>
              <a:ext cx="36360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141912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0016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771120" y="3367080"/>
            <a:ext cx="144720" cy="871560"/>
            <a:chOff x="771120" y="3367080"/>
            <a:chExt cx="144720" cy="871560"/>
          </a:xfrm>
        </p:grpSpPr>
        <p:sp>
          <p:nvSpPr>
            <p:cNvPr id="74" name=""/>
            <p:cNvSpPr/>
            <p:nvPr/>
          </p:nvSpPr>
          <p:spPr>
            <a:xfrm>
              <a:off x="843120" y="3367080"/>
              <a:ext cx="14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71120" y="3367080"/>
              <a:ext cx="7164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3120" y="3367080"/>
              <a:ext cx="7272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108080" y="3503520"/>
            <a:ext cx="290520" cy="507960"/>
            <a:chOff x="1108080" y="3503520"/>
            <a:chExt cx="290520" cy="507960"/>
          </a:xfrm>
        </p:grpSpPr>
        <p:sp>
          <p:nvSpPr>
            <p:cNvPr id="78" name=""/>
            <p:cNvSpPr/>
            <p:nvPr/>
          </p:nvSpPr>
          <p:spPr>
            <a:xfrm>
              <a:off x="110808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0808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52440" y="379404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252440" y="350352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1252440" y="3213000"/>
            <a:ext cx="180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52440" y="4011480"/>
            <a:ext cx="180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7520" y="4275000"/>
            <a:ext cx="71640" cy="716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7520" y="3191040"/>
            <a:ext cx="71640" cy="72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889360" y="3154320"/>
            <a:ext cx="798480" cy="144360"/>
            <a:chOff x="2889360" y="3154320"/>
            <a:chExt cx="798480" cy="144360"/>
          </a:xfrm>
        </p:grpSpPr>
        <p:sp>
          <p:nvSpPr>
            <p:cNvPr id="87" name=""/>
            <p:cNvSpPr/>
            <p:nvPr/>
          </p:nvSpPr>
          <p:spPr>
            <a:xfrm>
              <a:off x="3106800" y="3154320"/>
              <a:ext cx="36180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8936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68600" y="3225960"/>
              <a:ext cx="219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239560" y="3367080"/>
            <a:ext cx="146520" cy="871560"/>
            <a:chOff x="2239560" y="3367080"/>
            <a:chExt cx="146520" cy="871560"/>
          </a:xfrm>
        </p:grpSpPr>
        <p:sp>
          <p:nvSpPr>
            <p:cNvPr id="91" name=""/>
            <p:cNvSpPr/>
            <p:nvPr/>
          </p:nvSpPr>
          <p:spPr>
            <a:xfrm>
              <a:off x="2313000" y="3367080"/>
              <a:ext cx="14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23956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1300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576520" y="3503520"/>
            <a:ext cx="290520" cy="507960"/>
            <a:chOff x="2576520" y="3503520"/>
            <a:chExt cx="290520" cy="507960"/>
          </a:xfrm>
        </p:grpSpPr>
        <p:sp>
          <p:nvSpPr>
            <p:cNvPr id="95" name=""/>
            <p:cNvSpPr/>
            <p:nvPr/>
          </p:nvSpPr>
          <p:spPr>
            <a:xfrm>
              <a:off x="257652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7652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20880" y="379404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2720880" y="350352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 flipV="1">
            <a:off x="2720880" y="3213000"/>
            <a:ext cx="180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20880" y="4011480"/>
            <a:ext cx="180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84520" y="4273560"/>
            <a:ext cx="73080" cy="712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84520" y="3189240"/>
            <a:ext cx="7308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386240" y="3154320"/>
            <a:ext cx="797040" cy="144360"/>
            <a:chOff x="4386240" y="3154320"/>
            <a:chExt cx="797040" cy="144360"/>
          </a:xfrm>
        </p:grpSpPr>
        <p:sp>
          <p:nvSpPr>
            <p:cNvPr id="104" name=""/>
            <p:cNvSpPr/>
            <p:nvPr/>
          </p:nvSpPr>
          <p:spPr>
            <a:xfrm>
              <a:off x="4603680" y="3154320"/>
              <a:ext cx="36216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38624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6584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736440" y="3367080"/>
            <a:ext cx="145080" cy="871560"/>
            <a:chOff x="3736440" y="3367080"/>
            <a:chExt cx="145080" cy="871560"/>
          </a:xfrm>
        </p:grpSpPr>
        <p:sp>
          <p:nvSpPr>
            <p:cNvPr id="108" name=""/>
            <p:cNvSpPr/>
            <p:nvPr/>
          </p:nvSpPr>
          <p:spPr>
            <a:xfrm>
              <a:off x="3809880" y="3367080"/>
              <a:ext cx="180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73644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09880" y="3367080"/>
              <a:ext cx="7164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071960" y="3503520"/>
            <a:ext cx="290520" cy="507960"/>
            <a:chOff x="4071960" y="3503520"/>
            <a:chExt cx="290520" cy="507960"/>
          </a:xfrm>
        </p:grpSpPr>
        <p:sp>
          <p:nvSpPr>
            <p:cNvPr id="112" name=""/>
            <p:cNvSpPr/>
            <p:nvPr/>
          </p:nvSpPr>
          <p:spPr>
            <a:xfrm>
              <a:off x="407196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7196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18120" y="3794040"/>
              <a:ext cx="144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4218120" y="3503520"/>
              <a:ext cx="144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V="1">
            <a:off x="4218120" y="3213000"/>
            <a:ext cx="144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18120" y="4011480"/>
            <a:ext cx="144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81400" y="4275000"/>
            <a:ext cx="73080" cy="716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83200" y="3189240"/>
            <a:ext cx="7272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61880" y="3225600"/>
            <a:ext cx="180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1880" y="423540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-720" y="3637080"/>
            <a:ext cx="253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41760" y="3338640"/>
            <a:ext cx="18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56280" y="3646440"/>
            <a:ext cx="368280" cy="318240"/>
            <a:chOff x="1556280" y="3646440"/>
            <a:chExt cx="368280" cy="318240"/>
          </a:xfrm>
        </p:grpSpPr>
        <p:sp>
          <p:nvSpPr>
            <p:cNvPr id="125" name=""/>
            <p:cNvSpPr/>
            <p:nvPr/>
          </p:nvSpPr>
          <p:spPr>
            <a:xfrm>
              <a:off x="155628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95240" y="3705120"/>
              <a:ext cx="22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605240" y="2825640"/>
            <a:ext cx="545040" cy="327960"/>
            <a:chOff x="1605240" y="2825640"/>
            <a:chExt cx="545040" cy="327960"/>
          </a:xfrm>
        </p:grpSpPr>
        <p:sp>
          <p:nvSpPr>
            <p:cNvPr id="128" name=""/>
            <p:cNvSpPr/>
            <p:nvPr/>
          </p:nvSpPr>
          <p:spPr>
            <a:xfrm>
              <a:off x="1605240" y="2825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40960" y="2894040"/>
              <a:ext cx="40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j-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215720" y="2865600"/>
            <a:ext cx="192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j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24960" y="33336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988000" y="3646440"/>
            <a:ext cx="429840" cy="318240"/>
            <a:chOff x="2988000" y="3646440"/>
            <a:chExt cx="429840" cy="318240"/>
          </a:xfrm>
        </p:grpSpPr>
        <p:sp>
          <p:nvSpPr>
            <p:cNvPr id="133" name=""/>
            <p:cNvSpPr/>
            <p:nvPr/>
          </p:nvSpPr>
          <p:spPr>
            <a:xfrm>
              <a:off x="298800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29120" y="370512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019680" y="2801880"/>
            <a:ext cx="568440" cy="327960"/>
            <a:chOff x="3019680" y="2801880"/>
            <a:chExt cx="568440" cy="327960"/>
          </a:xfrm>
        </p:grpSpPr>
        <p:sp>
          <p:nvSpPr>
            <p:cNvPr id="136" name=""/>
            <p:cNvSpPr/>
            <p:nvPr/>
          </p:nvSpPr>
          <p:spPr>
            <a:xfrm>
              <a:off x="3019680" y="28018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56120" y="2870280"/>
              <a:ext cx="43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c-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479680" y="28843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720880" y="2593440"/>
            <a:ext cx="1800" cy="68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20880" y="2593800"/>
            <a:ext cx="1047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36240" y="3338640"/>
            <a:ext cx="20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03680" y="4311720"/>
            <a:ext cx="793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2400" y="2593800"/>
            <a:ext cx="1135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397480" y="2593800"/>
            <a:ext cx="1440" cy="81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16680" y="3225960"/>
            <a:ext cx="285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59320" y="3195720"/>
            <a:ext cx="7308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97480" y="3898800"/>
            <a:ext cx="1440" cy="412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397480" y="3219120"/>
            <a:ext cx="1440" cy="39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97480" y="3665520"/>
            <a:ext cx="1440" cy="185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73960" y="3652920"/>
            <a:ext cx="253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43920" y="28018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80000" y="2870280"/>
            <a:ext cx="44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r-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90880" y="2244600"/>
            <a:ext cx="48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c-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351400" y="3666960"/>
            <a:ext cx="4608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98920" y="3666960"/>
            <a:ext cx="446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74560" y="2871720"/>
            <a:ext cx="215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63080" y="3089160"/>
            <a:ext cx="26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328800" y="2517840"/>
            <a:ext cx="2353680" cy="1809000"/>
            <a:chOff x="6328800" y="2517840"/>
            <a:chExt cx="2353680" cy="1809000"/>
          </a:xfrm>
        </p:grpSpPr>
        <p:sp>
          <p:nvSpPr>
            <p:cNvPr id="159" name=""/>
            <p:cNvSpPr/>
            <p:nvPr/>
          </p:nvSpPr>
          <p:spPr>
            <a:xfrm>
              <a:off x="6339240" y="2517840"/>
              <a:ext cx="19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(j) - złącze (junctio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51840" y="3038400"/>
              <a:ext cx="175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(c) - korpus (cas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60920" y="3546360"/>
              <a:ext cx="2075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(r) - radiator (radiator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28800" y="4067280"/>
              <a:ext cx="235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(a) - otoczenie (ambien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475520" y="364644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16280" y="37051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523880" y="5257800"/>
                <a:ext cx="51818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j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r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leżność mocy strat tranzystora od tempera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828800" y="1523520"/>
            <a:ext cx="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487692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1280" y="1108080"/>
            <a:ext cx="103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720" y="4308480"/>
            <a:ext cx="105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21337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213372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95480" y="502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00640" y="4952880"/>
            <a:ext cx="1095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=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j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05520" y="3200040"/>
            <a:ext cx="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828800" y="3200400"/>
            <a:ext cx="32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680" y="3013200"/>
            <a:ext cx="128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tem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3600" y="1905120"/>
            <a:ext cx="81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486400" y="1706400"/>
                <a:ext cx="129528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T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j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 flipH="1">
            <a:off x="4495680" y="19051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410080" y="2479680"/>
                <a:ext cx="25146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ma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jc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y pracy tranzystorów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32840" y="2130480"/>
            <a:ext cx="234720" cy="18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54720" y="3019320"/>
            <a:ext cx="547920" cy="109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55640" y="5286240"/>
            <a:ext cx="3444840" cy="538200"/>
            <a:chOff x="755640" y="5286240"/>
            <a:chExt cx="3444840" cy="538200"/>
          </a:xfrm>
        </p:grpSpPr>
        <p:sp>
          <p:nvSpPr>
            <p:cNvPr id="187" name=""/>
            <p:cNvSpPr/>
            <p:nvPr/>
          </p:nvSpPr>
          <p:spPr>
            <a:xfrm>
              <a:off x="1170000" y="5288040"/>
              <a:ext cx="2627280" cy="266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70000" y="5556240"/>
              <a:ext cx="2627280" cy="268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87680" y="5556240"/>
              <a:ext cx="1612800" cy="268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5640" y="5286240"/>
              <a:ext cx="1617840" cy="270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157800" y="2130480"/>
            <a:ext cx="393840" cy="18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80040" y="3019320"/>
            <a:ext cx="549360" cy="109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165400" y="4191120"/>
            <a:ext cx="1879560" cy="676080"/>
            <a:chOff x="2165400" y="4191120"/>
            <a:chExt cx="1879560" cy="676080"/>
          </a:xfrm>
        </p:grpSpPr>
        <p:sp>
          <p:nvSpPr>
            <p:cNvPr id="194" name=""/>
            <p:cNvSpPr/>
            <p:nvPr/>
          </p:nvSpPr>
          <p:spPr>
            <a:xfrm>
              <a:off x="2392200" y="4192560"/>
              <a:ext cx="1432080" cy="335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92200" y="4530600"/>
              <a:ext cx="1432080" cy="335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65480" y="4529160"/>
              <a:ext cx="879480" cy="33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65400" y="4191120"/>
              <a:ext cx="882720" cy="33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964040" y="1992240"/>
            <a:ext cx="862200" cy="1179720"/>
            <a:chOff x="4964040" y="1992240"/>
            <a:chExt cx="862200" cy="1179720"/>
          </a:xfrm>
        </p:grpSpPr>
        <p:sp>
          <p:nvSpPr>
            <p:cNvPr id="199" name=""/>
            <p:cNvSpPr/>
            <p:nvPr/>
          </p:nvSpPr>
          <p:spPr>
            <a:xfrm>
              <a:off x="5394240" y="2135160"/>
              <a:ext cx="43200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64040" y="2135160"/>
              <a:ext cx="43200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64040" y="2620800"/>
              <a:ext cx="432000" cy="551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96040" y="1992240"/>
              <a:ext cx="430200" cy="554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773360" y="1238400"/>
            <a:ext cx="1440" cy="219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20720" y="3224160"/>
            <a:ext cx="320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695600" y="1238400"/>
            <a:ext cx="77760" cy="13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73360" y="1238400"/>
            <a:ext cx="79200" cy="13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669920" y="3155760"/>
            <a:ext cx="1573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669920" y="3224160"/>
            <a:ext cx="1573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93880" y="1649520"/>
            <a:ext cx="2131920" cy="1574640"/>
          </a:xfrm>
          <a:custGeom>
            <a:avLst/>
            <a:gdLst/>
            <a:ahLst/>
            <a:rect l="l" t="t" r="r" b="b"/>
            <a:pathLst>
              <a:path w="1343" h="1984">
                <a:moveTo>
                  <a:pt x="1343" y="0"/>
                </a:moveTo>
                <a:lnTo>
                  <a:pt x="1193" y="1121"/>
                </a:lnTo>
                <a:lnTo>
                  <a:pt x="1106" y="1590"/>
                </a:lnTo>
                <a:lnTo>
                  <a:pt x="1063" y="1712"/>
                </a:lnTo>
                <a:lnTo>
                  <a:pt x="976" y="1836"/>
                </a:lnTo>
                <a:lnTo>
                  <a:pt x="758" y="1984"/>
                </a:lnTo>
                <a:lnTo>
                  <a:pt x="0" y="198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457440" y="3241800"/>
            <a:ext cx="392400" cy="752400"/>
            <a:chOff x="3457440" y="3241800"/>
            <a:chExt cx="392400" cy="752400"/>
          </a:xfrm>
        </p:grpSpPr>
        <p:sp>
          <p:nvSpPr>
            <p:cNvPr id="211" name=""/>
            <p:cNvSpPr/>
            <p:nvPr/>
          </p:nvSpPr>
          <p:spPr>
            <a:xfrm>
              <a:off x="3502080" y="3241800"/>
              <a:ext cx="299880" cy="374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02080" y="3619440"/>
              <a:ext cx="299880" cy="372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57440" y="3618000"/>
              <a:ext cx="182520" cy="37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64080" y="3241800"/>
              <a:ext cx="185760" cy="37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809880" y="2128680"/>
            <a:ext cx="4542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52920" y="2608200"/>
            <a:ext cx="469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97400" y="3017880"/>
            <a:ext cx="4854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809880" y="2128680"/>
            <a:ext cx="1800" cy="410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97400" y="3017880"/>
            <a:ext cx="1440" cy="116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2920" y="2608200"/>
            <a:ext cx="1440" cy="157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027240" y="3223800"/>
            <a:ext cx="1800" cy="301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478240" y="3223800"/>
            <a:ext cx="1440" cy="301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59600" y="30178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550200" y="301752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42240" y="30178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84920" y="2608200"/>
            <a:ext cx="1440" cy="9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45320" y="2608200"/>
            <a:ext cx="1440" cy="9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84920" y="3497400"/>
            <a:ext cx="860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576756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767560" y="349740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98492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84920" y="349740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59600" y="3429000"/>
            <a:ext cx="782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5960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5960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6862320" y="336060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862320" y="342900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59600" y="3224160"/>
            <a:ext cx="390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6471720" y="3155760"/>
            <a:ext cx="781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159600" y="315576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59600" y="322416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471720" y="3224160"/>
            <a:ext cx="781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76960" y="3017880"/>
            <a:ext cx="180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59600" y="3017880"/>
            <a:ext cx="180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76960" y="3429000"/>
            <a:ext cx="782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17696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7696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788184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88184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32840" y="301788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67560" y="3017880"/>
            <a:ext cx="180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54720" y="3292560"/>
            <a:ext cx="3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7567560" y="322416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67560" y="3292560"/>
            <a:ext cx="795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7254360" y="3224160"/>
            <a:ext cx="781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7254360" y="3292560"/>
            <a:ext cx="781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94160" y="356544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74800" y="329076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486560" y="349740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411680" y="308628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68840" y="349740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14760" y="301788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92520" y="1649520"/>
            <a:ext cx="1800" cy="136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514760" y="164952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92520" y="164952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8272080" y="2949480"/>
            <a:ext cx="79560" cy="6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8272080" y="3017880"/>
            <a:ext cx="7956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52000" y="3017880"/>
            <a:ext cx="24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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69200" y="1527120"/>
            <a:ext cx="19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0360" y="1143000"/>
            <a:ext cx="20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12240" y="3429000"/>
            <a:ext cx="3967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2400480" y="6098760"/>
            <a:ext cx="7776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478240" y="6098760"/>
            <a:ext cx="792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57440" y="6165720"/>
            <a:ext cx="24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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69520" y="243828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64600" y="27432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61960" y="281952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440080" y="3191040"/>
            <a:ext cx="7776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87640" y="3191040"/>
            <a:ext cx="7776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13320" y="2575080"/>
            <a:ext cx="7920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21960" y="4444920"/>
            <a:ext cx="265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A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6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B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C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 mocy klasy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33520" y="1143000"/>
          <a:ext cx="802008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02008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762120" y="4343400"/>
                <a:ext cx="373356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 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a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ax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p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ystancyjny wzmacniacz moc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y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905120" y="1295280"/>
          <a:ext cx="5634000" cy="514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95280"/>
                    <a:ext cx="5634000" cy="51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4T14:26:55Z</dcterms:created>
  <dc:creator>Agnieszka Kukawczynska</dc:creator>
  <dc:description/>
  <dc:language>en-US</dc:language>
  <cp:lastModifiedBy>MK</cp:lastModifiedBy>
  <dcterms:modified xsi:type="dcterms:W3CDTF">2004-01-05T06:28:59Z</dcterms:modified>
  <cp:revision>31</cp:revision>
  <dc:subject/>
  <dc:title>Wzmacniacze mocy</dc:title>
</cp:coreProperties>
</file>